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9AB-249E-4700-8AB0-9FA30356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EC0-C70E-4DCB-931A-2B3DA2E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D68-1AE7-423D-BEDB-6C8559AC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46D-E8E0-4AEB-83EB-0CAE2447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3C6-4076-4915-9B41-AA0A039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40-31A0-4A63-BC9D-A94BF6A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39E-CA18-4D15-B940-715A7E1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5A2-5746-4679-8C9F-6B160E8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F64-78BE-4BB9-BEE4-3B4C5055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8C0-F2C5-46B9-8AB9-3B601C8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B9F-A77C-48F5-A04F-C97EEA8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719-CF13-497E-9441-4637515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400E-B7BC-4947-BFE9-DA61AF58E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’re going to help: Java and course-rela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ribe to mailing list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mailhost.cs.concordia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"Hello World!"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to Java, similarities and dif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: “.java”, contains interface +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perator over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ointers, only references: primitives and non-primitives (class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letion: Garbag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 an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java.sun.com/docs/books/tutoria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Getting Start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Essential Java Classes” (*Thre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Learning the Java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applets, gui, JFC/SWing, 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05:03:27Z</dcterms:created>
  <dc:creator>Home</dc:creator>
  <dc:description/>
  <dc:language>en-US</dc:language>
  <cp:lastModifiedBy>Home</cp:lastModifiedBy>
  <dcterms:modified xsi:type="dcterms:W3CDTF">2002-01-16T05:30:47Z</dcterms:modified>
  <cp:revision>3</cp:revision>
  <dc:subject/>
  <dc:title>Introduction</dc:title>
</cp:coreProperties>
</file>