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435-FF3B-4D7B-B421-133576A4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C6F-6ECA-43AB-A797-51328694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852-DF34-4EC6-B6A7-04EEE4C6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02B-0DEC-400E-9331-4CEBD70F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929-C1BC-4319-BEAE-87911A30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418-E4AB-4DC9-A2D8-C22BD39E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A99-6877-45AB-8B4E-787DD3C8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AEA-5F4F-427A-A9FA-2A7E7F65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A37-154C-47D2-A61A-92CE01DB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037-4728-4EFC-B2B9-B2861A8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81F-EAA6-4FE4-B7E0-56DF023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A88-0883-4E70-8DDC-911FC3E1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F5B8-BB28-43DD-92A5-7F88670FF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ction &amp;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ed for secur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world, companies store tons of information on comput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of this informa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ust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only certain people should be allow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&amp; 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ules for authorizing access to computers and its information (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Only students registered in courses that require Windows NT are allowed to use the NT systems in the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ols used to implement the policies (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OS uses a course list with student names to know who’s allowed to lo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icy &amp; 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ies are selected by computer adminis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s are implemented in the OS when it is necessary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uarant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they perform the function they were intend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alk about two classes of mechanis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Authentication (E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s whether a user is really the person he/she claims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upplying username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Mechanism in OS m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uarant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t cannot be bypassed by a series of devious actions (… telnet vs. ssh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: User 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e user authentication is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ossible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name/password may be shared by man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ay leave password in public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 may be easy to 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ituation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nal s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Authentication (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that a process cannot appear to be a process other tha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a user should not be allowed to create a process that appears to belong to another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A mechanism is not implemented, then even the best EA means not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A: Network 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popularity of internet/e-mail has grown, network security is a big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ackdoors that breach IA: viruses, worm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ni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m that launched a shell when it crash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Internet Explorer that ran executables tagged as HTML doc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50:31Z</dcterms:created>
  <dc:creator>Home</dc:creator>
  <dc:description/>
  <dc:language>en-US</dc:language>
  <cp:lastModifiedBy>Home</cp:lastModifiedBy>
  <dcterms:modified xsi:type="dcterms:W3CDTF">2002-04-03T05:59:36Z</dcterms:modified>
  <cp:revision>14</cp:revision>
  <dc:subject/>
  <dc:title>Tutorial 10</dc:title>
</cp:coreProperties>
</file>