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95B1-2668-4327-BCF9-F97F75CE9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A735-0981-4213-B10F-683A861B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C489-922A-4A66-A0EA-6D72B4510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90AE-9F97-4B58-A46A-0FAD40730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CCA3-E5CE-4E05-A1D0-6C01A0BB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76C6-334F-49AD-8276-9B94E755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D30C-EE46-42BD-9735-8771889F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51A6-AD4D-4E02-B575-B8CC5B3C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2257-9A38-47BE-811F-B221B508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4E83-7CDC-4005-8149-7980C9CC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74A0-3B8C-460B-A869-7EB0C977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7E38-FE49-46AB-A923-C4C6F64E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9725-5C3A-41A3-9CEB-F82FA8E28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onio Maior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ul Di Mar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6 functions in the Monitor class to satisfy the synchronization requir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_read(), end_read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_write1(), end_write1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_write2(), end_write2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er’s run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s RW.steps number of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s RW.monitor.request_read() at start, and RW.monitor.end_read() at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: reads values in the 3 sl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: Insert a yield() anywhere between the reads so that the assignment actually doesn’t wor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r’s run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loops RW.steps number of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les code for A-Writers and B-Wri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s RW.monitor.request_write() at start, and RW.monitor.end_write() at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: Writes a value to a slot in the 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W’s main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s 4 R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s 2 A-Writers: AW1, AW2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2 B-Writers: BW3, BW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s them to ready queue in following or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W1, BW3, AW2, BW4, R1, R2, R3, R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itor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6 functions are empty – your task is to write these 6 functions so that the threads obey the rules of the 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6 functions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ynchron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ust use only wait() and notifyAll() to control context swi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 H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4 asks you to solve the multiple Readers, multiple Writers problem using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formation given in the assignment can be confusing; let’s first try to make it clear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ers &amp; Wri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4 R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4 Writ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Writers of type ‘A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Writers of type ‘B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Writers and B-Writers differ by which slots they can each write to in the databas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atabase (D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RW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int dbase[] = new int[] {99, -1, -1}; // data base; slo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RO, R/W, R/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 has 3 slo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t 0 : Read-only, basically use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t 1 : Can only be written to by A-Wri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t 2 : Can only be written to by B-Wri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ers always read all 3 sl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Defin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start, DB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defin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cause slots 1 and 2 contain ‘-1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 becom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fin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soon as Writers overwrite the ‘-1’ values in the two sl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remains defin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e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fterw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on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defin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ers can’t start reading until DB is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ok for Writers to define the DB many times before the first Reader reads it – in other words, Writers can write to their slot even if it hasn’t been read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chronization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emaphores may be used – must u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it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ifyAll(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within the Monitor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Writers and B-Writers take strict turns (A, B, A, B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rs have priority over R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Synch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Writer starts writing, no other Writer/Reader is allowed to write/read until the current Writer is fin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Reader starts reading, other Readers are allowed to read before current Reader is finished (they can all read at the same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0T02:36:15Z</dcterms:created>
  <dc:creator>Home</dc:creator>
  <dc:description/>
  <dc:language>en-US</dc:language>
  <cp:lastModifiedBy>Home</cp:lastModifiedBy>
  <dcterms:modified xsi:type="dcterms:W3CDTF">2002-04-10T04:31:11Z</dcterms:modified>
  <cp:revision>7</cp:revision>
  <dc:subject/>
  <dc:title>Tutorial 11</dc:title>
</cp:coreProperties>
</file>