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FC3D-DA3F-4B9C-86DF-B24F64701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ar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=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ck[] = {a b c d $ $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When main() waits for the two threads to join(), which thread starts running fir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When this thread yields, which thread runs nex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: We perform HALF of the PUSH operation before we yield() -&gt; we only move the stack pointer, we haven’t put the value there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ar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= 4 // 3 -&gt;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: Performs a full POP operation – moving the stack pointer down – effectively undoing the HALF PUSH we saw befo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ar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= 3 // 4 -&gt;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: Completes the PUSH operation by placing a value on the stack – but it’s not at the expected posi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ar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ck[] = {a b c e $ $} // d -&gt;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ly, threads of higher priority are scheduled before threads of lower prio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Java does not guarantee this; sometimes a lower priority thread will be allowed to run to prevent star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es Runnable = On ready queue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Just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o longer “block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So after start creates a thread, what does that thread execu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dea is platform independent, but also ineffici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er versions are more platform dependent to make it more effici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oes against the ideology of Java, but was need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**********Add arrows to show inheritance and that loop yield o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You must enclose the “join()” calls in a try-catch block as shown. If you don’t do it, IT WON’T COMPILE and you’ll be confused and send me an em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do it, maybe explain exceptions later or anothe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D321-6390-4ABA-AFD5-791074D0C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7F68-1B1E-4BA3-96E0-DF6CF50C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C88A-D9F5-4246-AC98-39A296692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206F-67C6-4E88-8C62-50942B979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250E-E8F7-442A-A292-CD013163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DDDE-C612-483A-8A47-20FDA2D4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5813-721E-4841-98A7-D7DFADCE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40BF-6599-4422-8DF2-D56731CA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1CAD-717A-48B2-B098-7F2BD989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C179-3CD6-4748-ABD1-402CDD4D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7F27-B0CA-4F81-B1DF-9CFA9461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86AB-D457-4429-94FE-4E174CF6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E088-C330-41C9-81D2-A6916C74B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entures in Th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onio Maior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ul Di Mar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447920" y="457200"/>
            <a:ext cx="632448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static void main(String[] a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.out.println("Main thread starts executing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.out.println("Initial value of top = " + top + "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.out.println("Initial value of stack top = " + stack[top] + "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.out.println("Main thread will now fork two threads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quireBlock t1 = new AcquireBlo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leaseBlock t2 = new ReleaseBlo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2.start();     // added to ready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1.start();     // added to ready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y  {   // main thread waits for thread 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1.joi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2.joi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 catch (InterruptedException e) { 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System terminates normally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Final value of top = " + top + "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Final value of stack top = " + stack[top] + "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Final value of stack top-1 = " + stack[top-1] + "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cquireBloc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xtends Thread { ...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leaseBloc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xtends Thread { ...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00200" y="990720"/>
            <a:ext cx="60199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0666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153280" y="1522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457200"/>
            <a:ext cx="739116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{ ...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cquireBloc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xtends Thread { ...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leaseBloc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xtends Threa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.out.println("ReleaseBlock thread starts executing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iel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top = Block.top +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ReleaseBlock increments pointer to " + newtop + "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ck.top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iel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ReleaseBlock thread returns  Ms block " + block 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to position " + Block.top + "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ck.stack[Block.top] = bloc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Rel: Current value of top = " + Block.top + "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Rel: Current value of stack top = " + Block.stack[Block.top] + "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ReleaseBlock thread terminates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609480"/>
            <a:ext cx="609840" cy="1219320"/>
          </a:xfrm>
          <a:custGeom>
            <a:avLst/>
            <a:gdLst/>
            <a:ahLst/>
            <a:rect l="l" t="t" r="r" b="b"/>
            <a:pathLst>
              <a:path w="384" h="768">
                <a:moveTo>
                  <a:pt x="384" y="0"/>
                </a:moveTo>
                <a:lnTo>
                  <a:pt x="0" y="240"/>
                </a:lnTo>
                <a:lnTo>
                  <a:pt x="0" y="480"/>
                </a:lnTo>
                <a:lnTo>
                  <a:pt x="384" y="768"/>
                </a:ln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153280" y="1522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304920"/>
            <a:ext cx="731520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{ ...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cquireBloc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xtends Threa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.out.println("AcquireBlock thread starts executing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iel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AcquireBlock thread requests Ms block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ldtop = Block.t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 = Block.stack[oldtop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AcquireBlock thread obtains  Ms block " + copy 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from position " + oldtop + "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ck = Block.stack[oldtop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top = Block.top -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AcquireBlock decrements pointer to " + newtop + "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Block.t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Acq: Current value of top = " + Block.top + "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Acq: Current value of stack top = " + Block.stack[Block.top] + "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AcquireBlock thread terminates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leaseBloc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xtends Thread { ...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153280" y="1522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371600"/>
            <a:ext cx="1060200" cy="5019840"/>
          </a:xfrm>
          <a:custGeom>
            <a:avLst/>
            <a:gdLst/>
            <a:ahLst/>
            <a:rect l="l" t="t" r="r" b="b"/>
            <a:pathLst>
              <a:path w="668" h="2106">
                <a:moveTo>
                  <a:pt x="488" y="2106"/>
                </a:moveTo>
                <a:lnTo>
                  <a:pt x="8" y="1626"/>
                </a:lnTo>
                <a:lnTo>
                  <a:pt x="0" y="422"/>
                </a:lnTo>
                <a:lnTo>
                  <a:pt x="668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447920" y="457200"/>
            <a:ext cx="739116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{ ...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cquireBloc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xtends Thread { ...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leaseBloc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xtends Threa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ReleaseBlock thread starts executing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iel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top = Block.top +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.out.println("ReleaseBlock increments pointer to " + newtop + "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ock.top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iel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ReleaseBlock thread returns  Ms block " + block 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to position " + Block.top + "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ck.stack[Block.top] = bloc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Rel: Current value of top = " + Block.top + "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Rel: Current value of stack top = " + Block.stack[Block.top] + "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ReleaseBlock thread terminates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1066680"/>
            <a:ext cx="685800" cy="1447920"/>
          </a:xfrm>
          <a:custGeom>
            <a:avLst/>
            <a:gdLst/>
            <a:ahLst/>
            <a:rect l="l" t="t" r="r" b="b"/>
            <a:pathLst>
              <a:path w="432" h="1200">
                <a:moveTo>
                  <a:pt x="432" y="0"/>
                </a:moveTo>
                <a:lnTo>
                  <a:pt x="0" y="288"/>
                </a:lnTo>
                <a:lnTo>
                  <a:pt x="0" y="912"/>
                </a:lnTo>
                <a:lnTo>
                  <a:pt x="432" y="1200"/>
                </a:ln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153280" y="1522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7920" y="304920"/>
            <a:ext cx="731520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{ ...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cquireBloc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xtends Threa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AcquireBlock thread starts executing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iel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.out.println("AcquireBlock thread requests Ms block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ldtop = Block.t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y = Block.stack[oldtop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.out.println("AcquireBlock thread obtains  Ms block " + copy 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" from position " + oldtop + "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ock = Block.stack[oldtop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top = Block.top -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.out.println("AcquireBlock decrements pointer to " + newtop + "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Block.t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.out.println("Acq: Current value of top = " + Block.top + "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.out.println("Acq:Current value of stack top=" + Block.stack[Block.top]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.out.println("AcquireBlock thread terminates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leaseBloc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xtends Thread { ...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1951200"/>
            <a:ext cx="844560" cy="4449600"/>
          </a:xfrm>
          <a:custGeom>
            <a:avLst/>
            <a:gdLst/>
            <a:ahLst/>
            <a:rect l="l" t="t" r="r" b="b"/>
            <a:pathLst>
              <a:path w="532" h="2803">
                <a:moveTo>
                  <a:pt x="432" y="2803"/>
                </a:moveTo>
                <a:lnTo>
                  <a:pt x="0" y="2515"/>
                </a:lnTo>
                <a:lnTo>
                  <a:pt x="0" y="403"/>
                </a:lnTo>
                <a:lnTo>
                  <a:pt x="532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153280" y="1522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7920" y="457200"/>
            <a:ext cx="739116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{ ...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cquireBloc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xtends Thread { ...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leaseBloc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xtends Threa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ReleaseBlock thread starts executing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iel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top = Block.top +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ReleaseBlock increments pointer to " + newtop + "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ck.top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iel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.out.println("ReleaseBlock thread returns  Ms block " + block 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" to position " + Block.top + "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ock.stack[Block.top] = bloc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.out.println("Rel: Current value of top = " + Block.top + "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.out.println("Rel: Current value of stack top=" + Block.stack[Block.top]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.out.println("ReleaseBlock thread terminates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09480" y="1066680"/>
            <a:ext cx="844560" cy="2941920"/>
          </a:xfrm>
          <a:custGeom>
            <a:avLst/>
            <a:gdLst/>
            <a:ahLst/>
            <a:rect l="l" t="t" r="r" b="b"/>
            <a:pathLst>
              <a:path w="532" h="2803">
                <a:moveTo>
                  <a:pt x="432" y="2803"/>
                </a:moveTo>
                <a:lnTo>
                  <a:pt x="0" y="2515"/>
                </a:lnTo>
                <a:lnTo>
                  <a:pt x="0" y="403"/>
                </a:lnTo>
                <a:lnTo>
                  <a:pt x="532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153280" y="1522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47920" y="457200"/>
            <a:ext cx="632448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static void main(String[] a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Main thread starts executing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Initial value of top = " + top + "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Initial value of stack top = " + stack[top] + "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Main thread will now fork two threads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quireBlock t1 = new AcquireBlo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Block t2 = new ReleaseBlo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2.start();     // added to ready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1.start();     // added to ready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y  {   // main thread waits for thread 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1.joi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2.joi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 catch (InterruptedException e) { 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.out.println("System terminates normally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.out.println("Final value of top = " + top + "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.out.println("Final value of stack top = " + stack[top] + "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.out.println("Final value of stack top-1 = " + stack[top-1]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cquireBloc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xtends Thread { ...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leaseBloc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xtends Thread { ...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990720"/>
            <a:ext cx="60199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844560" cy="1904760"/>
          </a:xfrm>
          <a:custGeom>
            <a:avLst/>
            <a:gdLst/>
            <a:ahLst/>
            <a:rect l="l" t="t" r="r" b="b"/>
            <a:pathLst>
              <a:path w="532" h="2803">
                <a:moveTo>
                  <a:pt x="432" y="2803"/>
                </a:moveTo>
                <a:lnTo>
                  <a:pt x="0" y="2515"/>
                </a:lnTo>
                <a:lnTo>
                  <a:pt x="0" y="403"/>
                </a:lnTo>
                <a:lnTo>
                  <a:pt x="532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153280" y="1522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1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371600"/>
            <a:ext cx="83217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in thread starts execu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itial value of top = 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itial value of stack top = 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in thread will now fork two threa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leaseBlock thread starts execu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quireBlock thread starts execu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leaseBlock increments pointer to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quireBlock thread requests Ms blo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quireBlock thread obtains  Ms block $ from position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quireBlock decrements pointer to 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q: Current value of top = 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q: Current value of stack top = 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quireBlock thread termina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leaseBlock thread returns  Ms block e to position 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l: Current value of top = 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l: Current value of stack top = 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leaseBlock thread termina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 terminates normal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al value of top = 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al value of stack top = 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al value of stack top-1 = 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ad Scheduling in J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ion of multiple threads in some order is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uses a simple, deterministic scheduling algorithm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xed priority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ds of the same priority are chosen to run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und-rob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ash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Threads R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thread runs until one of following occu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 priority thread goes on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ady que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nd thus, preempts current th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yields, or it’s run() ex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ime-slicing supported systems, it’s time allotment exp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Threads in J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four main functions of inter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the function the thread executes (you provide th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rt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creates a new thread and puts it on the ready 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in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wait for this thread’s run() to 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ield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yields the cpu to the next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… why Java 1.2.1 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1.2.1 and prior: Java VM controls thread scheduling, rather than the 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quent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time-sli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take advantage of multiple proces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call yield() to allow other threads to run (of the same prior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ple Thread Cl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143000"/>
            <a:ext cx="815328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ThreadTest.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MyThread extends Threa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String 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MyThread(String name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.name = 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(int i = 1; i &lt;= 6; ++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name + ": " + i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i ==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ield(); // Let other threads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CONTINU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ple Thread Pro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066680"/>
            <a:ext cx="8153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class ThreadTes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Thread t1 = new MyThread("Alpha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Thread t2 = new MyThread("Beta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Schedule threads to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.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.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"This is in the main()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Wait for threads to fin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.jo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.jo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catch (InterruptedException e)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"End of main()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ple Outp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06668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in the 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pha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pha: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pha: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a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a: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a: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pha: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pha: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pha: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a: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a: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a: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 of 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52578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this make sen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Assignmen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 Blo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 a typical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 AcquireBlo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 the “pop”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 ReleaseBlo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 the “push”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to see what can happen if push and pop operations are no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tom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s = main store – British terminolog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0T23:12:31Z</dcterms:created>
  <dc:creator>FRAPS</dc:creator>
  <dc:description/>
  <dc:language>en-US</dc:language>
  <cp:lastModifiedBy>Home</cp:lastModifiedBy>
  <dcterms:modified xsi:type="dcterms:W3CDTF">2002-01-28T02:11:57Z</dcterms:modified>
  <cp:revision>16</cp:revision>
  <dc:subject/>
  <dc:title>Tutorial 2</dc:title>
</cp:coreProperties>
</file>