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65B3-3D73-4C5E-8355-5FA46058E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AFB6-9D39-4143-A082-31B780BB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5A3F-68E5-4AE6-809D-F9E1C47C7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382E-249D-46DA-BECB-47BE1CEB0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5C99-1F36-4984-9082-4F26ADA7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109F-F958-436E-845F-E6CC5418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F23B-B5F8-4D14-BE83-B6E26D05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31F0-FCB9-4AE1-B11C-9DE5311E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0338-9255-4B46-97D1-4F32F1B8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C28D-1B7C-4BA3-88EA-B3159290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940E-B08D-4BBB-996F-B5B4E1C5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5646-0A13-4631-AB2C-F1E01163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4026-669C-4F10-8AD5-D11C618A0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c or sin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onio Maio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l Di Ma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make matters wors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on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 run() functions not mutually exclusive – yields are inserted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o go wro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the Acquires wait for the Releases to finish – the Acquires are put on the ready queue fir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y Queue after all threads are created: main &gt; A1 &gt; A2 &gt; R1 &gt; 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yield(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at crucial juncture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plic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ield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s represent what could be a time-slice context-switch in a “real-world”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3352680"/>
            <a:ext cx="78487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+Block.to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leaseBlock 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yield 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push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ock.stack[Block.top] = block 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4724280"/>
            <a:ext cx="78487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ock = Block.stack[Block.top]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quireBlock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yield 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pop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-Block.to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aphore Initi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at the mutex and semaphore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zed to different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utex is initialized to one to allow only one thread into the critical section at any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prisem’ semaphores are initialized to zero to allow no Acquires to run (initi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ly - Assignment Solution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h r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mutual-exclusion semaphore to make ‘acquire’ and ‘release’ atomic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two ‘prisem’ semaphores to enforce the ordering that all ReleaseBlock threads must complete before any AcquireBlock threads can begi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the probl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up of coff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“pourer” (produ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“drinker” (consum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: A mes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962520"/>
            <a:ext cx="228600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nker(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true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in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3962520"/>
            <a:ext cx="23623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true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u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, what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e w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protoc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rer pours only when cup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mp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nker drinks only when cup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3657600"/>
            <a:ext cx="251460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true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!full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u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ull = tr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3657600"/>
            <a:ext cx="251460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nker(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true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f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in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ull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k, bu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we have two drink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drinkers can drink at the same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3657600"/>
            <a:ext cx="251460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nker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true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full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in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ull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3657600"/>
            <a:ext cx="251460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nker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true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f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in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ull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4648320"/>
            <a:ext cx="2362320" cy="838080"/>
          </a:xfrm>
          <a:custGeom>
            <a:avLst/>
            <a:gdLst/>
            <a:ahLst/>
            <a:rect l="l" t="t" r="r" b="b"/>
            <a:pathLst>
              <a:path w="1440" h="528">
                <a:moveTo>
                  <a:pt x="816" y="0"/>
                </a:moveTo>
                <a:lnTo>
                  <a:pt x="1440" y="0"/>
                </a:lnTo>
                <a:lnTo>
                  <a:pt x="1440" y="528"/>
                </a:lnTo>
                <a:lnTo>
                  <a:pt x="0" y="528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467480" y="47242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his to b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om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e! So how can we do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emaphor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maphore is an object used to synchronize multiple threa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() : wi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() : release the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functions are guaranteed to be ato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aphor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s arriving at a restaurant with only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r = Semaph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s = 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Seats = 10 Limited resources controlled using the semap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aphore Java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Semaphor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int val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maphore (int value1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ue = value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ynchronized void Wait 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 value &lt;= 0 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y { wait ()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tch (InterruptedException e) {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ue--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ynchronized void Signal 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+val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ify 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semaphores, we can make sure that only one drinker can ever drink at on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: Wait() and Signal() are guaranteed to be atomic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drinkers? No problem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2819520"/>
            <a:ext cx="251460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nker 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true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m.Wai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in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m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2819520"/>
            <a:ext cx="419076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Semaphore initi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maphore cu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p = new Semaphore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1828800"/>
            <a:ext cx="746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Assignmen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the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un() of Acquire and Release are no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ritical se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ence they could leave Block in an inconsistent internal st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quires are not to run before the Releases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02:37:03Z</dcterms:created>
  <dc:creator>Paul Di Marco</dc:creator>
  <dc:description/>
  <dc:language>en-US</dc:language>
  <cp:lastModifiedBy>FRAPS</cp:lastModifiedBy>
  <dcterms:modified xsi:type="dcterms:W3CDTF">2002-01-29T06:03:32Z</dcterms:modified>
  <cp:revision>28</cp:revision>
  <dc:subject/>
  <dc:title>Tutorial 3</dc:title>
</cp:coreProperties>
</file>