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B6F73-DF4F-48E6-8B12-D00D1C4A78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im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PU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.Q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/O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2 needs to do I/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*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2 finishes I/O; is appended to ready que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3 needs to go do I/O after 1 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4*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3 finishes I/O, goes back on Ready Que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1 finishes executing after 1 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3 needs to go do I/O after 1 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6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8*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3 finishes I/O, goes on ready que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9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5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3 finishes after 1 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6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ll done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 No Idle Time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A762-EABA-4C6C-AE7C-3CC21AF73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6F8C-C992-45DC-B3EF-BD96D24B7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9B66-6344-44E1-8B53-C6793A9CE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201F-91A4-4800-A691-2B002DA1F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D1E5-11C2-42BE-8243-3C61915F3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C11C-80E1-4995-860D-FA5F137C5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47AD-6A01-45FE-BE98-B282A0EFA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0F1C-ABED-4559-806A-3BF0EE398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7CE4-E9AB-47C1-9180-ACA8C992E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5D41-FFBD-4364-99F4-0E36DFF4E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F307-7A1D-4DCC-8BA2-F25062CDB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4EA4-09EE-442E-B710-FEF50D202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7B6BB-D8F0-46C8-BC4A-BED70E18D5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torial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edu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ortest Job First (Preemptiv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716040" y="1447920"/>
          <a:ext cx="7665840" cy="2117520"/>
        </p:xfrm>
        <a:graphic>
          <a:graphicData uri="http://schemas.openxmlformats.org/drawingml/2006/table">
            <a:tbl>
              <a:tblPr/>
              <a:tblGrid>
                <a:gridCol w="1314360"/>
                <a:gridCol w="1274760"/>
                <a:gridCol w="2538360"/>
                <a:gridCol w="2538360"/>
              </a:tblGrid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rea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P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st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/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nd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/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m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 m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 2ms for 5m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m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 4ms for 2m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 8ms for 2m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2" name=""/>
          <p:cNvSpPr/>
          <p:nvPr/>
        </p:nvSpPr>
        <p:spPr>
          <a:xfrm>
            <a:off x="1523880" y="4419720"/>
            <a:ext cx="15242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371600" y="517680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048120" y="4419720"/>
            <a:ext cx="6094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724280" y="4419720"/>
            <a:ext cx="3049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962520" y="5638680"/>
            <a:ext cx="7617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657600" y="5638680"/>
            <a:ext cx="3049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80880" y="44910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P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57920" y="5557680"/>
            <a:ext cx="55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/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962520" y="4419720"/>
            <a:ext cx="6094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724280" y="5638680"/>
            <a:ext cx="3049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029200" y="4419720"/>
            <a:ext cx="6094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523880" y="5024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67652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82880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98108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13372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59092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89548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0040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35268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65760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96252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11480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6708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41972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72428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87692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02920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18148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48640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63868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79132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94360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4852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40080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55308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70572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01028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16292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31520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46748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286000" y="5024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048120" y="5024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809880" y="5024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572000" y="5024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334120" y="5024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095880" y="5024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858000" y="5024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620120" y="5024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371600" y="5329080"/>
            <a:ext cx="2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133720" y="5329080"/>
            <a:ext cx="2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819520" y="532908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581280" y="5329080"/>
            <a:ext cx="38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43400" y="532908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05520" y="532908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867280" y="5329080"/>
            <a:ext cx="38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629400" y="532908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391520" y="532908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638680" y="4419720"/>
            <a:ext cx="16765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657600" y="4419720"/>
            <a:ext cx="3049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ority (Preemptiv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380880" y="1447920"/>
          <a:ext cx="8483760" cy="2117520"/>
        </p:xfrm>
        <a:graphic>
          <a:graphicData uri="http://schemas.openxmlformats.org/drawingml/2006/table">
            <a:tbl>
              <a:tblPr/>
              <a:tblGrid>
                <a:gridCol w="1314720"/>
                <a:gridCol w="817560"/>
                <a:gridCol w="1274760"/>
                <a:gridCol w="2538360"/>
                <a:gridCol w="2538360"/>
              </a:tblGrid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rea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P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st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/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nd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/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m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 m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 2ms for 5m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m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 4ms for 2m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 8ms for 2m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7" name=""/>
          <p:cNvSpPr/>
          <p:nvPr/>
        </p:nvSpPr>
        <p:spPr>
          <a:xfrm>
            <a:off x="2133720" y="4419720"/>
            <a:ext cx="304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371600" y="5176800"/>
            <a:ext cx="6781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181480" y="5638680"/>
            <a:ext cx="762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133720" y="5638680"/>
            <a:ext cx="304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80880" y="44910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P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57920" y="5557680"/>
            <a:ext cx="55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/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419720"/>
            <a:ext cx="609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048120" y="5638680"/>
            <a:ext cx="304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523880" y="5024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67652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82880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98108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13372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43828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59092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74320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89548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20040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35268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50532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65760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96252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11480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26708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41972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72428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87692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02920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18148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48640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63868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79132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94360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24852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40080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55308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70572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01028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162920" y="5100480"/>
            <a:ext cx="0" cy="157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746748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286000" y="5024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048120" y="5024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09880" y="5024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572000" y="5024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334120" y="5024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095880" y="5024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858000" y="5024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620120" y="5024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371600" y="5329080"/>
            <a:ext cx="2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133720" y="5329080"/>
            <a:ext cx="2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819520" y="532908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581280" y="5329080"/>
            <a:ext cx="38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343400" y="532908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105520" y="532908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5867280" y="5329080"/>
            <a:ext cx="38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629400" y="532908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7391520" y="532908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876920" y="4419720"/>
            <a:ext cx="304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962520" y="4419720"/>
            <a:ext cx="9144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438280" y="4419720"/>
            <a:ext cx="609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048120" y="4419720"/>
            <a:ext cx="304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943600" y="4419720"/>
            <a:ext cx="19810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7772400" y="51055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7924680" y="51055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523880" y="4419720"/>
            <a:ext cx="609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und Rob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4" name=""/>
          <p:cNvGraphicFramePr/>
          <p:nvPr/>
        </p:nvGraphicFramePr>
        <p:xfrm>
          <a:off x="639720" y="1447920"/>
          <a:ext cx="7666200" cy="2117520"/>
        </p:xfrm>
        <a:graphic>
          <a:graphicData uri="http://schemas.openxmlformats.org/drawingml/2006/table">
            <a:tbl>
              <a:tblPr/>
              <a:tblGrid>
                <a:gridCol w="1314720"/>
                <a:gridCol w="1274760"/>
                <a:gridCol w="2538360"/>
                <a:gridCol w="2538360"/>
              </a:tblGrid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rea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P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st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/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nd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/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m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 m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 2ms for 5m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m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 4ms for 2m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 8ms for 2m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5" name=""/>
          <p:cNvSpPr/>
          <p:nvPr/>
        </p:nvSpPr>
        <p:spPr>
          <a:xfrm>
            <a:off x="1523880" y="4419720"/>
            <a:ext cx="4572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371600" y="5176800"/>
            <a:ext cx="6781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286000" y="5638680"/>
            <a:ext cx="762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352680" y="5638680"/>
            <a:ext cx="3049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80880" y="44910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P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57920" y="5557680"/>
            <a:ext cx="55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/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724280" y="4419720"/>
            <a:ext cx="4572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486400" y="5638680"/>
            <a:ext cx="3049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523880" y="5024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82880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98108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43828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59092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74320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89548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20040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50532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65760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96252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11480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426708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441972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72428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87692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02920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18148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48640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563868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79132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94360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24852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40080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55308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70572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01028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162920" y="5100480"/>
            <a:ext cx="0" cy="157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731520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46748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5024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048120" y="5024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809880" y="5024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572000" y="5024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334120" y="5024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6095880" y="5024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6858000" y="5024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20120" y="5024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371600" y="5329080"/>
            <a:ext cx="2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133720" y="5329080"/>
            <a:ext cx="2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19520" y="532908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581280" y="5329080"/>
            <a:ext cx="38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343400" y="532908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105520" y="532908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867280" y="5329080"/>
            <a:ext cx="38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629400" y="532908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7391520" y="532908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981080" y="4419720"/>
            <a:ext cx="3049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4419720"/>
            <a:ext cx="4572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7772400" y="51055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7924680" y="51055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2286000" y="4419720"/>
            <a:ext cx="4572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352680" y="4419720"/>
            <a:ext cx="4572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809880" y="4419720"/>
            <a:ext cx="4572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267080" y="4419720"/>
            <a:ext cx="4572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486400" y="4419720"/>
            <a:ext cx="4572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5943600" y="4419720"/>
            <a:ext cx="4572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400800" y="4419720"/>
            <a:ext cx="4572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4" name=""/>
          <p:cNvGrpSpPr/>
          <p:nvPr/>
        </p:nvGrpSpPr>
        <p:grpSpPr>
          <a:xfrm>
            <a:off x="3124080" y="3886200"/>
            <a:ext cx="304920" cy="909720"/>
            <a:chOff x="3124080" y="3886200"/>
            <a:chExt cx="304920" cy="909720"/>
          </a:xfrm>
        </p:grpSpPr>
        <p:grpSp>
          <p:nvGrpSpPr>
            <p:cNvPr id="395" name=""/>
            <p:cNvGrpSpPr/>
            <p:nvPr/>
          </p:nvGrpSpPr>
          <p:grpSpPr>
            <a:xfrm>
              <a:off x="3124080" y="3886200"/>
              <a:ext cx="304920" cy="909720"/>
              <a:chOff x="3124080" y="3886200"/>
              <a:chExt cx="304920" cy="909720"/>
            </a:xfrm>
          </p:grpSpPr>
          <p:sp>
            <p:nvSpPr>
              <p:cNvPr id="396" name=""/>
              <p:cNvSpPr/>
              <p:nvPr/>
            </p:nvSpPr>
            <p:spPr>
              <a:xfrm>
                <a:off x="3200400" y="4419720"/>
                <a:ext cx="152280" cy="376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3124080" y="3886200"/>
                <a:ext cx="304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3276720" y="41911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"/>
          <p:cNvGrpSpPr/>
          <p:nvPr/>
        </p:nvGrpSpPr>
        <p:grpSpPr>
          <a:xfrm>
            <a:off x="5105520" y="3886200"/>
            <a:ext cx="380880" cy="909720"/>
            <a:chOff x="5105520" y="3886200"/>
            <a:chExt cx="380880" cy="909720"/>
          </a:xfrm>
        </p:grpSpPr>
        <p:grpSp>
          <p:nvGrpSpPr>
            <p:cNvPr id="400" name=""/>
            <p:cNvGrpSpPr/>
            <p:nvPr/>
          </p:nvGrpSpPr>
          <p:grpSpPr>
            <a:xfrm>
              <a:off x="5105520" y="3886200"/>
              <a:ext cx="380880" cy="909720"/>
              <a:chOff x="5105520" y="3886200"/>
              <a:chExt cx="380880" cy="909720"/>
            </a:xfrm>
          </p:grpSpPr>
          <p:sp>
            <p:nvSpPr>
              <p:cNvPr id="401" name=""/>
              <p:cNvSpPr/>
              <p:nvPr/>
            </p:nvSpPr>
            <p:spPr>
              <a:xfrm>
                <a:off x="5181480" y="4419720"/>
                <a:ext cx="152640" cy="376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5105520" y="388620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3" name=""/>
            <p:cNvSpPr/>
            <p:nvPr/>
          </p:nvSpPr>
          <p:spPr>
            <a:xfrm>
              <a:off x="5257800" y="41911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5257800" y="3886200"/>
            <a:ext cx="304920" cy="909720"/>
            <a:chOff x="5257800" y="3886200"/>
            <a:chExt cx="304920" cy="909720"/>
          </a:xfrm>
        </p:grpSpPr>
        <p:grpSp>
          <p:nvGrpSpPr>
            <p:cNvPr id="405" name=""/>
            <p:cNvGrpSpPr/>
            <p:nvPr/>
          </p:nvGrpSpPr>
          <p:grpSpPr>
            <a:xfrm>
              <a:off x="5257800" y="3886200"/>
              <a:ext cx="304920" cy="909720"/>
              <a:chOff x="5257800" y="3886200"/>
              <a:chExt cx="304920" cy="909720"/>
            </a:xfrm>
          </p:grpSpPr>
          <p:sp>
            <p:nvSpPr>
              <p:cNvPr id="406" name=""/>
              <p:cNvSpPr/>
              <p:nvPr/>
            </p:nvSpPr>
            <p:spPr>
              <a:xfrm>
                <a:off x="5334120" y="4419720"/>
                <a:ext cx="152280" cy="376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5257800" y="3886200"/>
                <a:ext cx="304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8" name=""/>
            <p:cNvSpPr/>
            <p:nvPr/>
          </p:nvSpPr>
          <p:spPr>
            <a:xfrm>
              <a:off x="5410080" y="41911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6934320" y="3886200"/>
            <a:ext cx="304560" cy="909720"/>
            <a:chOff x="6934320" y="3886200"/>
            <a:chExt cx="304560" cy="909720"/>
          </a:xfrm>
        </p:grpSpPr>
        <p:grpSp>
          <p:nvGrpSpPr>
            <p:cNvPr id="410" name=""/>
            <p:cNvGrpSpPr/>
            <p:nvPr/>
          </p:nvGrpSpPr>
          <p:grpSpPr>
            <a:xfrm>
              <a:off x="6934320" y="3886200"/>
              <a:ext cx="304560" cy="909720"/>
              <a:chOff x="6934320" y="3886200"/>
              <a:chExt cx="304560" cy="909720"/>
            </a:xfrm>
          </p:grpSpPr>
          <p:sp>
            <p:nvSpPr>
              <p:cNvPr id="411" name=""/>
              <p:cNvSpPr/>
              <p:nvPr/>
            </p:nvSpPr>
            <p:spPr>
              <a:xfrm>
                <a:off x="7010280" y="4419720"/>
                <a:ext cx="151920" cy="376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6934320" y="3886200"/>
                <a:ext cx="304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3" name=""/>
            <p:cNvSpPr/>
            <p:nvPr/>
          </p:nvSpPr>
          <p:spPr>
            <a:xfrm>
              <a:off x="7086600" y="41911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6781680" y="3886200"/>
            <a:ext cx="304560" cy="909720"/>
            <a:chOff x="6781680" y="3886200"/>
            <a:chExt cx="304560" cy="909720"/>
          </a:xfrm>
        </p:grpSpPr>
        <p:grpSp>
          <p:nvGrpSpPr>
            <p:cNvPr id="415" name=""/>
            <p:cNvGrpSpPr/>
            <p:nvPr/>
          </p:nvGrpSpPr>
          <p:grpSpPr>
            <a:xfrm>
              <a:off x="6781680" y="3886200"/>
              <a:ext cx="304560" cy="909720"/>
              <a:chOff x="6781680" y="3886200"/>
              <a:chExt cx="304560" cy="909720"/>
            </a:xfrm>
          </p:grpSpPr>
          <p:sp>
            <p:nvSpPr>
              <p:cNvPr id="416" name=""/>
              <p:cNvSpPr/>
              <p:nvPr/>
            </p:nvSpPr>
            <p:spPr>
              <a:xfrm>
                <a:off x="6857640" y="4419720"/>
                <a:ext cx="151920" cy="376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6781680" y="3886200"/>
                <a:ext cx="304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8" name=""/>
            <p:cNvSpPr/>
            <p:nvPr/>
          </p:nvSpPr>
          <p:spPr>
            <a:xfrm>
              <a:off x="6933960" y="41911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capping Scheduling in Jav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 1.2.1 and prior (“green”) threa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ads are managed by Java V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thread runs at a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ad is only taken off the CPU wh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yiel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blocks (on a resour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ex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gher priority thread becomes runnable (not alway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w-Style Scheduling in Jav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-1.2.1 versions of Jav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ads are managed by the host 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s multiple threads to run “concurrently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ad is taken off the CPU as in previous versions, but al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its time quantum expires (if supported by 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do we need schedul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manage processes according to requirements of a system, lik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responsiveness 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ance of a scheduler is determined mainly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xt switch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eduling poli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, 2, 3, 4, 5, 6, Context Switch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witching from one process running on the CPU to another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ves all the registers of outgoing process (to memory), then loads all the registers of incoming process (from memor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be time-costly; mostly hardware-depend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hedu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echanism that determine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h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CPU will be allocated to processes, and i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hat o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lasses of scheduling strategi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preemptive (aka Batc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emp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n-preemptive polic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 any process to run to completion once it has been allocated to the CPU. Current process does not get interrup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examp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Come First Serve (FCF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rtest Job Next (SJ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ority schedu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adline schedu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emptive polic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 another process to interrupt current process i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has a higher pri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ime quantum has elap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examp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e-level Que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heduling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three threads, their execution times and I/O needs, apply scheduling poli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ads are placed on ready queue in order: T1, T2 then T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 Specific to Round Rob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 Quantum of 3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xt switch time considered negligible in this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Come First Ser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716040" y="1447920"/>
          <a:ext cx="7665840" cy="2117520"/>
        </p:xfrm>
        <a:graphic>
          <a:graphicData uri="http://schemas.openxmlformats.org/drawingml/2006/table">
            <a:tbl>
              <a:tblPr/>
              <a:tblGrid>
                <a:gridCol w="1314000"/>
                <a:gridCol w="1274760"/>
                <a:gridCol w="2538360"/>
                <a:gridCol w="2538720"/>
              </a:tblGrid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rea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P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st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/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nd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/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m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 m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 2ms for 5m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m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 4ms for 2m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 8ms for 2m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"/>
          <p:cNvSpPr/>
          <p:nvPr/>
        </p:nvSpPr>
        <p:spPr>
          <a:xfrm>
            <a:off x="1523880" y="4419720"/>
            <a:ext cx="15242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371600" y="517680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048120" y="4419720"/>
            <a:ext cx="304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52680" y="4419720"/>
            <a:ext cx="609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114800" y="4419720"/>
            <a:ext cx="19810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352680" y="5638680"/>
            <a:ext cx="762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114800" y="5638680"/>
            <a:ext cx="3049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44910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P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920" y="5557680"/>
            <a:ext cx="55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/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095880" y="4419720"/>
            <a:ext cx="609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705720" y="5638680"/>
            <a:ext cx="304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010280" y="4419720"/>
            <a:ext cx="609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523880" y="5024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67652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82880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8108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43828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59092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74320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89548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20040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35268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50532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5760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6252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11480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26708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41972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72428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87692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02920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18148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48640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3868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79132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94360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24852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40080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55308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70572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01028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16292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31520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46748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86000" y="5024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048120" y="5024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809880" y="5024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0" y="5024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334120" y="5024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95880" y="5024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0" y="5024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620120" y="5024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371600" y="5329080"/>
            <a:ext cx="2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133720" y="5329080"/>
            <a:ext cx="2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819520" y="532908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581280" y="5329080"/>
            <a:ext cx="38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532908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05520" y="532908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867280" y="5329080"/>
            <a:ext cx="38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629400" y="532908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391520" y="532908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hortest Job First (Nonpreemptiv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716040" y="1447920"/>
          <a:ext cx="7665840" cy="2117520"/>
        </p:xfrm>
        <a:graphic>
          <a:graphicData uri="http://schemas.openxmlformats.org/drawingml/2006/table">
            <a:tbl>
              <a:tblPr/>
              <a:tblGrid>
                <a:gridCol w="1314360"/>
                <a:gridCol w="1274760"/>
                <a:gridCol w="2538360"/>
                <a:gridCol w="2538360"/>
              </a:tblGrid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rea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P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st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/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nd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/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m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 m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 2ms for 5m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m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 4ms for 2m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 8ms for 2m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8" name=""/>
          <p:cNvSpPr/>
          <p:nvPr/>
        </p:nvSpPr>
        <p:spPr>
          <a:xfrm>
            <a:off x="1523880" y="4419720"/>
            <a:ext cx="15242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371600" y="517680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048120" y="4419720"/>
            <a:ext cx="6094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24280" y="4419720"/>
            <a:ext cx="19814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962520" y="5638680"/>
            <a:ext cx="7617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657600" y="5638680"/>
            <a:ext cx="3049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0880" y="44910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P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57920" y="5557680"/>
            <a:ext cx="55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/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4419720"/>
            <a:ext cx="6094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724280" y="5638680"/>
            <a:ext cx="3049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705720" y="4419720"/>
            <a:ext cx="6094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523880" y="5024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82880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98108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13372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3828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092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74320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89548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040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35268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50532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65760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96252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11480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26708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41972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72428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87692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02920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18148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48640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63868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79132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94360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24852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40080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70572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01028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1520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46748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286000" y="5024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5024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809880" y="5024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0" y="5024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334120" y="5024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095880" y="5024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858000" y="5024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20120" y="5024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371600" y="5329080"/>
            <a:ext cx="2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133720" y="5329080"/>
            <a:ext cx="2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819520" y="532908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581280" y="5329080"/>
            <a:ext cx="38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343400" y="532908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105520" y="532908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867280" y="5329080"/>
            <a:ext cx="38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629400" y="532908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391520" y="532908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657600" y="4419720"/>
            <a:ext cx="3049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3T22:12:54Z</dcterms:created>
  <dc:creator>FRAPS</dc:creator>
  <dc:description/>
  <dc:language>en-US</dc:language>
  <cp:lastModifiedBy>FRAPS</cp:lastModifiedBy>
  <dcterms:modified xsi:type="dcterms:W3CDTF">2002-02-12T04:33:10Z</dcterms:modified>
  <cp:revision>39</cp:revision>
  <dc:subject/>
  <dc:title>Tutorial 4</dc:title>
</cp:coreProperties>
</file>