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3E3B-6C70-4BB9-A692-D328419D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and contrast of automatic and dynamic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EF5-8403-4326-8DC3-FEE41653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98C-E632-4591-9ADF-740556AF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FC4-8D01-4B3D-A5B1-93EC5020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AA6-2B3A-42C1-984E-DF9FE1FB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F48-799B-4410-AC31-D6CEBE54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CA5-D6E0-48FB-8A11-1B64929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1B8-F83F-4054-BFED-6E03D78E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629-FAB7-4201-A69A-6CB7417B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3A6-3345-49D9-8644-944D4BD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A38-ABDB-4D42-BBD2-D363D63B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1B0-EC92-4072-B16E-83CA59C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9F0-3798-48EA-BA14-9C2B669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CF41-A332-4FA6-9AB8-372A0353D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.k.a. 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 data and programs used by a process that is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ype of memory that a CPU deal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e. hard di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volatile memory used to store data when a process is not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mory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anage the use of primary and secondary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ng primary memory to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processes between primary and secondary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memory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memory tha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within a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for local/automatic variables and for passing parameters to function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for dynamic memory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81952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195720"/>
            <a:ext cx="3048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gment (global and static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8320" y="385128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p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0640" y="501012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38164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Variabl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640" y="4227480"/>
            <a:ext cx="30481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221000"/>
            <a:ext cx="6480" cy="573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66880" y="4384800"/>
            <a:ext cx="5040" cy="6411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parti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-parti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-Parti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-Parti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02:36:06Z</dcterms:created>
  <dc:creator>Home</dc:creator>
  <dc:description/>
  <dc:language>en-US</dc:language>
  <cp:lastModifiedBy>Home</cp:lastModifiedBy>
  <dcterms:modified xsi:type="dcterms:W3CDTF">2002-03-11T05:12:44Z</dcterms:modified>
  <cp:revision>6</cp:revision>
  <dc:subject/>
  <dc:title>Tutorial 7</dc:title>
</cp:coreProperties>
</file>