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6B04-D737-4F2D-9CAC-79AEA1664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ge that is removed could be the most often referenced p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d page numbers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ties between candidate victim pages by choosing on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that the new 4 pages at the end are all chosen to be the victim pa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are new and are not frequently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4E3-4BA1-41AC-9786-A05EE2B1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FA7-EEA2-4DB2-A3C1-BDCF17D2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EDD-BE25-43A8-AD6B-8C872509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BBF-6721-4C2B-9E35-47942E41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14F-942F-4C2B-BF64-401AD35D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AA2-8988-4F7B-94F4-CC260C14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356-AF86-4780-8CAF-C36ED39C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119-C310-40C5-81BD-FA8B248D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064-8292-4684-9981-D35BE28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AEC-33A7-4142-80F9-622DF2F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4BB-9930-47DA-8ACD-2E8C32D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213-AEA6-4B44-810D-972642E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64F-AEEB-4A82-8414-C72500EE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emory: 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age reference stream is not 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ead of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can’t “pre-fetch”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ich page to lo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ring run-t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load them on “dem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concentrate on replacement policies (#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Pag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, Optim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U, LFU, FI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Re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page at random to be the victim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o implement, but is the worst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knowledge is taken into ac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thus has same probability of being the vic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algorithm; however requires knowledge of the future page references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sult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st possible pag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that will be referenced the latest from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Algorith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’ reference stream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1 2 3 0 1 2 3 0 1 2 3 4 5 6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s allocated 3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sp>
          <p:nvSpPr>
            <p:cNvPr id="93" name=""/>
            <p:cNvSpPr/>
            <p:nvPr/>
          </p:nvSpPr>
          <p:spPr>
            <a:xfrm>
              <a:off x="38502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51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0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21640" y="4695840"/>
            <a:ext cx="356040" cy="1250280"/>
            <a:chOff x="4121640" y="4695840"/>
            <a:chExt cx="356040" cy="1250280"/>
          </a:xfrm>
        </p:grpSpPr>
        <p:sp>
          <p:nvSpPr>
            <p:cNvPr id="97" name=""/>
            <p:cNvSpPr/>
            <p:nvPr/>
          </p:nvSpPr>
          <p:spPr>
            <a:xfrm>
              <a:off x="41216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3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277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sp>
          <p:nvSpPr>
            <p:cNvPr id="101" name=""/>
            <p:cNvSpPr/>
            <p:nvPr/>
          </p:nvSpPr>
          <p:spPr>
            <a:xfrm>
              <a:off x="46548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66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6128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16880" y="4695840"/>
            <a:ext cx="365760" cy="1250280"/>
            <a:chOff x="4916880" y="4695840"/>
            <a:chExt cx="365760" cy="1250280"/>
          </a:xfrm>
        </p:grpSpPr>
        <p:sp>
          <p:nvSpPr>
            <p:cNvPr id="105" name=""/>
            <p:cNvSpPr/>
            <p:nvPr/>
          </p:nvSpPr>
          <p:spPr>
            <a:xfrm>
              <a:off x="49168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2804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27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50400" y="4695840"/>
            <a:ext cx="365760" cy="1250280"/>
            <a:chOff x="5450400" y="4695840"/>
            <a:chExt cx="365760" cy="1250280"/>
          </a:xfrm>
        </p:grpSpPr>
        <p:sp>
          <p:nvSpPr>
            <p:cNvPr id="109" name=""/>
            <p:cNvSpPr/>
            <p:nvPr/>
          </p:nvSpPr>
          <p:spPr>
            <a:xfrm>
              <a:off x="54504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12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62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21840" y="4695840"/>
            <a:ext cx="356040" cy="1250280"/>
            <a:chOff x="5721840" y="4695840"/>
            <a:chExt cx="356040" cy="1250280"/>
          </a:xfrm>
        </p:grpSpPr>
        <p:sp>
          <p:nvSpPr>
            <p:cNvPr id="113" name=""/>
            <p:cNvSpPr/>
            <p:nvPr/>
          </p:nvSpPr>
          <p:spPr>
            <a:xfrm>
              <a:off x="5721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79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117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118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300840" y="4695840"/>
              <a:ext cx="365760" cy="1250280"/>
              <a:chOff x="3300840" y="4695840"/>
              <a:chExt cx="365760" cy="1250280"/>
            </a:xfrm>
          </p:grpSpPr>
          <p:sp>
            <p:nvSpPr>
              <p:cNvPr id="144" name=""/>
              <p:cNvSpPr/>
              <p:nvPr/>
            </p:nvSpPr>
            <p:spPr>
              <a:xfrm>
                <a:off x="33008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120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316680" y="5486400"/>
                <a:ext cx="349920" cy="459720"/>
                <a:chOff x="3316680" y="5486400"/>
                <a:chExt cx="349920" cy="45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16680" y="5486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52680" y="5486400"/>
                  <a:ext cx="30492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158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578400" y="5486400"/>
              <a:ext cx="349920" cy="459720"/>
              <a:chOff x="3578400" y="5486400"/>
              <a:chExt cx="349920" cy="459720"/>
            </a:xfrm>
          </p:grpSpPr>
          <p:sp>
            <p:nvSpPr>
              <p:cNvPr id="161" name=""/>
              <p:cNvSpPr/>
              <p:nvPr/>
            </p:nvSpPr>
            <p:spPr>
              <a:xfrm>
                <a:off x="357840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971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4383360" y="4695840"/>
            <a:ext cx="365760" cy="1250280"/>
            <a:chOff x="4383360" y="4695840"/>
            <a:chExt cx="365760" cy="1250280"/>
          </a:xfrm>
        </p:grpSpPr>
        <p:sp>
          <p:nvSpPr>
            <p:cNvPr id="164" name=""/>
            <p:cNvSpPr/>
            <p:nvPr/>
          </p:nvSpPr>
          <p:spPr>
            <a:xfrm>
              <a:off x="43833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99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394520" y="5092560"/>
              <a:ext cx="349920" cy="470160"/>
              <a:chOff x="4394520" y="5092560"/>
              <a:chExt cx="349920" cy="470160"/>
            </a:xfrm>
          </p:grpSpPr>
          <p:sp>
            <p:nvSpPr>
              <p:cNvPr id="167" name=""/>
              <p:cNvSpPr/>
              <p:nvPr/>
            </p:nvSpPr>
            <p:spPr>
              <a:xfrm>
                <a:off x="439452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19720" y="510552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5188320" y="4695840"/>
            <a:ext cx="356400" cy="1250280"/>
            <a:chOff x="5188320" y="4695840"/>
            <a:chExt cx="356400" cy="1250280"/>
          </a:xfrm>
        </p:grpSpPr>
        <p:sp>
          <p:nvSpPr>
            <p:cNvPr id="170" name=""/>
            <p:cNvSpPr/>
            <p:nvPr/>
          </p:nvSpPr>
          <p:spPr>
            <a:xfrm>
              <a:off x="51897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948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188320" y="4695840"/>
              <a:ext cx="349920" cy="469800"/>
              <a:chOff x="5188320" y="4695840"/>
              <a:chExt cx="349920" cy="469800"/>
            </a:xfrm>
          </p:grpSpPr>
          <p:sp>
            <p:nvSpPr>
              <p:cNvPr id="173" name=""/>
              <p:cNvSpPr/>
              <p:nvPr/>
            </p:nvSpPr>
            <p:spPr>
              <a:xfrm>
                <a:off x="5188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135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5994720" y="4695840"/>
            <a:ext cx="354600" cy="1250280"/>
            <a:chOff x="5994720" y="4695840"/>
            <a:chExt cx="354600" cy="1250280"/>
          </a:xfrm>
        </p:grpSpPr>
        <p:sp>
          <p:nvSpPr>
            <p:cNvPr id="176" name=""/>
            <p:cNvSpPr/>
            <p:nvPr/>
          </p:nvSpPr>
          <p:spPr>
            <a:xfrm>
              <a:off x="5994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9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999400" y="4695840"/>
              <a:ext cx="349920" cy="469800"/>
              <a:chOff x="5999400" y="4695840"/>
              <a:chExt cx="349920" cy="469800"/>
            </a:xfrm>
          </p:grpSpPr>
          <p:sp>
            <p:nvSpPr>
              <p:cNvPr id="179" name=""/>
              <p:cNvSpPr/>
              <p:nvPr/>
            </p:nvSpPr>
            <p:spPr>
              <a:xfrm>
                <a:off x="5999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576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270840" y="4695840"/>
            <a:ext cx="356400" cy="1250280"/>
            <a:chOff x="6270840" y="4695840"/>
            <a:chExt cx="356400" cy="1250280"/>
          </a:xfrm>
        </p:grpSpPr>
        <p:sp>
          <p:nvSpPr>
            <p:cNvPr id="182" name=""/>
            <p:cNvSpPr/>
            <p:nvPr/>
          </p:nvSpPr>
          <p:spPr>
            <a:xfrm>
              <a:off x="6270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773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272640" y="5092560"/>
              <a:ext cx="349920" cy="470160"/>
              <a:chOff x="6272640" y="5092560"/>
              <a:chExt cx="349920" cy="470160"/>
            </a:xfrm>
          </p:grpSpPr>
          <p:sp>
            <p:nvSpPr>
              <p:cNvPr id="185" name=""/>
              <p:cNvSpPr/>
              <p:nvPr/>
            </p:nvSpPr>
            <p:spPr>
              <a:xfrm>
                <a:off x="62726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08640" y="510552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532920" y="4695840"/>
            <a:ext cx="365760" cy="1250280"/>
            <a:chOff x="6532920" y="4695840"/>
            <a:chExt cx="365760" cy="1250280"/>
          </a:xfrm>
        </p:grpSpPr>
        <p:sp>
          <p:nvSpPr>
            <p:cNvPr id="188" name=""/>
            <p:cNvSpPr/>
            <p:nvPr/>
          </p:nvSpPr>
          <p:spPr>
            <a:xfrm>
              <a:off x="65329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44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6548760" y="5486400"/>
              <a:ext cx="349920" cy="459720"/>
              <a:chOff x="6548760" y="5486400"/>
              <a:chExt cx="349920" cy="45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6548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689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6805800" y="4695840"/>
            <a:ext cx="354960" cy="1250280"/>
            <a:chOff x="6805800" y="4695840"/>
            <a:chExt cx="354960" cy="1250280"/>
          </a:xfrm>
        </p:grpSpPr>
        <p:sp>
          <p:nvSpPr>
            <p:cNvPr id="194" name=""/>
            <p:cNvSpPr/>
            <p:nvPr/>
          </p:nvSpPr>
          <p:spPr>
            <a:xfrm>
              <a:off x="68058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108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05800" y="4695840"/>
              <a:ext cx="349920" cy="469800"/>
              <a:chOff x="6805800" y="4695840"/>
              <a:chExt cx="349920" cy="469800"/>
            </a:xfrm>
          </p:grpSpPr>
          <p:sp>
            <p:nvSpPr>
              <p:cNvPr id="197" name=""/>
              <p:cNvSpPr/>
              <p:nvPr/>
            </p:nvSpPr>
            <p:spPr>
              <a:xfrm>
                <a:off x="6805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263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which was last referenced the longest time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202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3278520" y="4691160"/>
              <a:ext cx="365760" cy="1250280"/>
              <a:chOff x="3278520" y="4691160"/>
              <a:chExt cx="365760" cy="1250280"/>
            </a:xfrm>
          </p:grpSpPr>
          <p:sp>
            <p:nvSpPr>
              <p:cNvPr id="229" name=""/>
              <p:cNvSpPr/>
              <p:nvPr/>
            </p:nvSpPr>
            <p:spPr>
              <a:xfrm>
                <a:off x="3278520" y="46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89320" y="5087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3294360" y="5481720"/>
                <a:ext cx="349920" cy="459720"/>
                <a:chOff x="3294360" y="5481720"/>
                <a:chExt cx="349920" cy="4597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294360" y="5481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330000" y="54817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235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240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243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78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971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383360" y="4695840"/>
            <a:ext cx="365760" cy="1250280"/>
            <a:chOff x="4383360" y="4695840"/>
            <a:chExt cx="365760" cy="1250280"/>
          </a:xfrm>
        </p:grpSpPr>
        <p:sp>
          <p:nvSpPr>
            <p:cNvPr id="248" name=""/>
            <p:cNvSpPr/>
            <p:nvPr/>
          </p:nvSpPr>
          <p:spPr>
            <a:xfrm>
              <a:off x="43833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99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4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053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88320" y="4695840"/>
            <a:ext cx="356400" cy="1250280"/>
            <a:chOff x="5188320" y="4695840"/>
            <a:chExt cx="356400" cy="1250280"/>
          </a:xfrm>
        </p:grpSpPr>
        <p:sp>
          <p:nvSpPr>
            <p:cNvPr id="253" name=""/>
            <p:cNvSpPr/>
            <p:nvPr/>
          </p:nvSpPr>
          <p:spPr>
            <a:xfrm>
              <a:off x="51897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948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188320" y="4695840"/>
              <a:ext cx="349920" cy="469800"/>
              <a:chOff x="5188320" y="4695840"/>
              <a:chExt cx="349920" cy="469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188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135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5994720" y="4695840"/>
            <a:ext cx="354600" cy="1250280"/>
            <a:chOff x="5994720" y="4695840"/>
            <a:chExt cx="354600" cy="1250280"/>
          </a:xfrm>
        </p:grpSpPr>
        <p:sp>
          <p:nvSpPr>
            <p:cNvPr id="259" name=""/>
            <p:cNvSpPr/>
            <p:nvPr/>
          </p:nvSpPr>
          <p:spPr>
            <a:xfrm>
              <a:off x="5994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99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999400" y="4695840"/>
              <a:ext cx="349920" cy="469800"/>
              <a:chOff x="5999400" y="4695840"/>
              <a:chExt cx="349920" cy="46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5999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3576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6270840" y="4695840"/>
            <a:ext cx="356400" cy="1250280"/>
            <a:chOff x="6270840" y="4695840"/>
            <a:chExt cx="356400" cy="1250280"/>
          </a:xfrm>
        </p:grpSpPr>
        <p:sp>
          <p:nvSpPr>
            <p:cNvPr id="265" name=""/>
            <p:cNvSpPr/>
            <p:nvPr/>
          </p:nvSpPr>
          <p:spPr>
            <a:xfrm>
              <a:off x="6270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773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272640" y="5092560"/>
              <a:ext cx="349920" cy="470160"/>
              <a:chOff x="6272640" y="5092560"/>
              <a:chExt cx="349920" cy="470160"/>
            </a:xfrm>
          </p:grpSpPr>
          <p:sp>
            <p:nvSpPr>
              <p:cNvPr id="268" name=""/>
              <p:cNvSpPr/>
              <p:nvPr/>
            </p:nvSpPr>
            <p:spPr>
              <a:xfrm>
                <a:off x="62726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08640" y="510552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6532920" y="4695840"/>
            <a:ext cx="365760" cy="1250280"/>
            <a:chOff x="6532920" y="4695840"/>
            <a:chExt cx="365760" cy="1250280"/>
          </a:xfrm>
        </p:grpSpPr>
        <p:sp>
          <p:nvSpPr>
            <p:cNvPr id="271" name=""/>
            <p:cNvSpPr/>
            <p:nvPr/>
          </p:nvSpPr>
          <p:spPr>
            <a:xfrm>
              <a:off x="65329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44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548760" y="5486400"/>
              <a:ext cx="349920" cy="459720"/>
              <a:chOff x="6548760" y="5486400"/>
              <a:chExt cx="349920" cy="459720"/>
            </a:xfrm>
          </p:grpSpPr>
          <p:sp>
            <p:nvSpPr>
              <p:cNvPr id="274" name=""/>
              <p:cNvSpPr/>
              <p:nvPr/>
            </p:nvSpPr>
            <p:spPr>
              <a:xfrm>
                <a:off x="6548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689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6805800" y="4695840"/>
            <a:ext cx="354960" cy="1250280"/>
            <a:chOff x="6805800" y="4695840"/>
            <a:chExt cx="354960" cy="1250280"/>
          </a:xfrm>
        </p:grpSpPr>
        <p:sp>
          <p:nvSpPr>
            <p:cNvPr id="277" name=""/>
            <p:cNvSpPr/>
            <p:nvPr/>
          </p:nvSpPr>
          <p:spPr>
            <a:xfrm>
              <a:off x="68058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108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805800" y="4695840"/>
              <a:ext cx="349920" cy="469800"/>
              <a:chOff x="6805800" y="4695840"/>
              <a:chExt cx="349920" cy="469800"/>
            </a:xfrm>
          </p:grpSpPr>
          <p:sp>
            <p:nvSpPr>
              <p:cNvPr id="280" name=""/>
              <p:cNvSpPr/>
              <p:nvPr/>
            </p:nvSpPr>
            <p:spPr>
              <a:xfrm>
                <a:off x="6805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263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grpSp>
          <p:nvGrpSpPr>
            <p:cNvPr id="283" name=""/>
            <p:cNvGrpSpPr/>
            <p:nvPr/>
          </p:nvGrpSpPr>
          <p:grpSpPr>
            <a:xfrm>
              <a:off x="3845160" y="4695840"/>
              <a:ext cx="354960" cy="1250280"/>
              <a:chOff x="3845160" y="4695840"/>
              <a:chExt cx="354960" cy="1250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8502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4516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020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8671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121640" y="4695840"/>
            <a:ext cx="356040" cy="1250280"/>
            <a:chOff x="4121640" y="4695840"/>
            <a:chExt cx="356040" cy="1250280"/>
          </a:xfrm>
        </p:grpSpPr>
        <p:grpSp>
          <p:nvGrpSpPr>
            <p:cNvPr id="289" name=""/>
            <p:cNvGrpSpPr/>
            <p:nvPr/>
          </p:nvGrpSpPr>
          <p:grpSpPr>
            <a:xfrm>
              <a:off x="4121640" y="4695840"/>
              <a:ext cx="356040" cy="1250280"/>
              <a:chOff x="4121640" y="4695840"/>
              <a:chExt cx="356040" cy="1250280"/>
            </a:xfrm>
          </p:grpSpPr>
          <p:sp>
            <p:nvSpPr>
              <p:cNvPr id="290" name=""/>
              <p:cNvSpPr/>
              <p:nvPr/>
            </p:nvSpPr>
            <p:spPr>
              <a:xfrm>
                <a:off x="41216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30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27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1623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grpSp>
          <p:nvGrpSpPr>
            <p:cNvPr id="295" name=""/>
            <p:cNvGrpSpPr/>
            <p:nvPr/>
          </p:nvGrpSpPr>
          <p:grpSpPr>
            <a:xfrm>
              <a:off x="4654800" y="4695840"/>
              <a:ext cx="356400" cy="1250280"/>
              <a:chOff x="4654800" y="4695840"/>
              <a:chExt cx="356400" cy="1250280"/>
            </a:xfrm>
          </p:grpSpPr>
          <p:sp>
            <p:nvSpPr>
              <p:cNvPr id="296" name=""/>
              <p:cNvSpPr/>
              <p:nvPr/>
            </p:nvSpPr>
            <p:spPr>
              <a:xfrm>
                <a:off x="4654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566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6128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67676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16880" y="4695840"/>
            <a:ext cx="365760" cy="1250280"/>
            <a:chOff x="4916880" y="4695840"/>
            <a:chExt cx="365760" cy="1250280"/>
          </a:xfrm>
        </p:grpSpPr>
        <p:grpSp>
          <p:nvGrpSpPr>
            <p:cNvPr id="301" name=""/>
            <p:cNvGrpSpPr/>
            <p:nvPr/>
          </p:nvGrpSpPr>
          <p:grpSpPr>
            <a:xfrm>
              <a:off x="4916880" y="4695840"/>
              <a:ext cx="365760" cy="1250280"/>
              <a:chOff x="4916880" y="4695840"/>
              <a:chExt cx="365760" cy="1250280"/>
            </a:xfrm>
          </p:grpSpPr>
          <p:sp>
            <p:nvSpPr>
              <p:cNvPr id="302" name=""/>
              <p:cNvSpPr/>
              <p:nvPr/>
            </p:nvSpPr>
            <p:spPr>
              <a:xfrm>
                <a:off x="491688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280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3272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9435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50400" y="4695840"/>
            <a:ext cx="365760" cy="1250280"/>
            <a:chOff x="5450400" y="4695840"/>
            <a:chExt cx="365760" cy="1250280"/>
          </a:xfrm>
        </p:grpSpPr>
        <p:grpSp>
          <p:nvGrpSpPr>
            <p:cNvPr id="307" name=""/>
            <p:cNvGrpSpPr/>
            <p:nvPr/>
          </p:nvGrpSpPr>
          <p:grpSpPr>
            <a:xfrm>
              <a:off x="5450400" y="4695840"/>
              <a:ext cx="365760" cy="1250280"/>
              <a:chOff x="5450400" y="4695840"/>
              <a:chExt cx="365760" cy="1250280"/>
            </a:xfrm>
          </p:grpSpPr>
          <p:sp>
            <p:nvSpPr>
              <p:cNvPr id="308" name=""/>
              <p:cNvSpPr/>
              <p:nvPr/>
            </p:nvSpPr>
            <p:spPr>
              <a:xfrm>
                <a:off x="5450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612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662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4673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21840" y="4695840"/>
            <a:ext cx="356040" cy="1250280"/>
            <a:chOff x="5721840" y="4695840"/>
            <a:chExt cx="356040" cy="1250280"/>
          </a:xfrm>
        </p:grpSpPr>
        <p:grpSp>
          <p:nvGrpSpPr>
            <p:cNvPr id="313" name=""/>
            <p:cNvGrpSpPr/>
            <p:nvPr/>
          </p:nvGrpSpPr>
          <p:grpSpPr>
            <a:xfrm>
              <a:off x="5721840" y="4695840"/>
              <a:ext cx="356040" cy="1250280"/>
              <a:chOff x="5721840" y="4695840"/>
              <a:chExt cx="356040" cy="1250280"/>
            </a:xfrm>
          </p:grpSpPr>
          <p:sp>
            <p:nvSpPr>
              <p:cNvPr id="314" name=""/>
              <p:cNvSpPr/>
              <p:nvPr/>
            </p:nvSpPr>
            <p:spPr>
              <a:xfrm>
                <a:off x="57218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232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279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575784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Frequently Used (LF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which was least frequently referenced (since the beginning of the reference st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321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322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3278520" y="4691160"/>
              <a:ext cx="365760" cy="1250280"/>
              <a:chOff x="3278520" y="4691160"/>
              <a:chExt cx="365760" cy="1250280"/>
            </a:xfrm>
          </p:grpSpPr>
          <p:sp>
            <p:nvSpPr>
              <p:cNvPr id="348" name=""/>
              <p:cNvSpPr/>
              <p:nvPr/>
            </p:nvSpPr>
            <p:spPr>
              <a:xfrm>
                <a:off x="3278520" y="46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289320" y="5087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3294360" y="5481720"/>
                <a:ext cx="349920" cy="459720"/>
                <a:chOff x="3294360" y="5481720"/>
                <a:chExt cx="349920" cy="459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294360" y="5481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330000" y="54817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354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359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362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8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71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731200" y="4695840"/>
            <a:ext cx="356400" cy="1250280"/>
            <a:chOff x="5731200" y="4695840"/>
            <a:chExt cx="356400" cy="1250280"/>
          </a:xfrm>
        </p:grpSpPr>
        <p:sp>
          <p:nvSpPr>
            <p:cNvPr id="367" name=""/>
            <p:cNvSpPr/>
            <p:nvPr/>
          </p:nvSpPr>
          <p:spPr>
            <a:xfrm>
              <a:off x="573264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768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731200" y="4695840"/>
              <a:ext cx="349920" cy="469800"/>
              <a:chOff x="5731200" y="4695840"/>
              <a:chExt cx="349920" cy="469800"/>
            </a:xfrm>
          </p:grpSpPr>
          <p:sp>
            <p:nvSpPr>
              <p:cNvPr id="370" name=""/>
              <p:cNvSpPr/>
              <p:nvPr/>
            </p:nvSpPr>
            <p:spPr>
              <a:xfrm>
                <a:off x="57312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5640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sp>
          <p:nvSpPr>
            <p:cNvPr id="373" name=""/>
            <p:cNvSpPr/>
            <p:nvPr/>
          </p:nvSpPr>
          <p:spPr>
            <a:xfrm>
              <a:off x="38502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51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50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grpSp>
          <p:nvGrpSpPr>
            <p:cNvPr id="377" name=""/>
            <p:cNvGrpSpPr/>
            <p:nvPr/>
          </p:nvGrpSpPr>
          <p:grpSpPr>
            <a:xfrm>
              <a:off x="4654800" y="4695840"/>
              <a:ext cx="356400" cy="1250280"/>
              <a:chOff x="4654800" y="4695840"/>
              <a:chExt cx="356400" cy="1250280"/>
            </a:xfrm>
          </p:grpSpPr>
          <p:sp>
            <p:nvSpPr>
              <p:cNvPr id="378" name=""/>
              <p:cNvSpPr/>
              <p:nvPr/>
            </p:nvSpPr>
            <p:spPr>
              <a:xfrm>
                <a:off x="4654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566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6128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67676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097520" y="4695840"/>
            <a:ext cx="354960" cy="1250280"/>
            <a:chOff x="4097520" y="4695840"/>
            <a:chExt cx="354960" cy="1250280"/>
          </a:xfrm>
        </p:grpSpPr>
        <p:sp>
          <p:nvSpPr>
            <p:cNvPr id="383" name=""/>
            <p:cNvSpPr/>
            <p:nvPr/>
          </p:nvSpPr>
          <p:spPr>
            <a:xfrm>
              <a:off x="41025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97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025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359600" y="4695840"/>
            <a:ext cx="365760" cy="1250280"/>
            <a:chOff x="4359600" y="4695840"/>
            <a:chExt cx="365760" cy="1250280"/>
          </a:xfrm>
        </p:grpSpPr>
        <p:sp>
          <p:nvSpPr>
            <p:cNvPr id="387" name=""/>
            <p:cNvSpPr/>
            <p:nvPr/>
          </p:nvSpPr>
          <p:spPr>
            <a:xfrm>
              <a:off x="43596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04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375440" y="5486400"/>
              <a:ext cx="349920" cy="459720"/>
              <a:chOff x="4375440" y="5486400"/>
              <a:chExt cx="34992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43754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11080" y="548640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4915080" y="4695840"/>
            <a:ext cx="354960" cy="1250280"/>
            <a:chOff x="4915080" y="4695840"/>
            <a:chExt cx="354960" cy="1250280"/>
          </a:xfrm>
        </p:grpSpPr>
        <p:sp>
          <p:nvSpPr>
            <p:cNvPr id="393" name=""/>
            <p:cNvSpPr/>
            <p:nvPr/>
          </p:nvSpPr>
          <p:spPr>
            <a:xfrm>
              <a:off x="49201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15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201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83280" y="4695840"/>
            <a:ext cx="356400" cy="1250280"/>
            <a:chOff x="5183280" y="4695840"/>
            <a:chExt cx="356400" cy="1250280"/>
          </a:xfrm>
        </p:grpSpPr>
        <p:grpSp>
          <p:nvGrpSpPr>
            <p:cNvPr id="397" name=""/>
            <p:cNvGrpSpPr/>
            <p:nvPr/>
          </p:nvGrpSpPr>
          <p:grpSpPr>
            <a:xfrm>
              <a:off x="5183280" y="4695840"/>
              <a:ext cx="356400" cy="1250280"/>
              <a:chOff x="5183280" y="4695840"/>
              <a:chExt cx="356400" cy="1250280"/>
            </a:xfrm>
          </p:grpSpPr>
          <p:sp>
            <p:nvSpPr>
              <p:cNvPr id="398" name=""/>
              <p:cNvSpPr/>
              <p:nvPr/>
            </p:nvSpPr>
            <p:spPr>
              <a:xfrm>
                <a:off x="518328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850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89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20524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469120" y="4695840"/>
            <a:ext cx="354960" cy="1250280"/>
            <a:chOff x="5469120" y="4695840"/>
            <a:chExt cx="354960" cy="1250280"/>
          </a:xfrm>
        </p:grpSpPr>
        <p:sp>
          <p:nvSpPr>
            <p:cNvPr id="403" name=""/>
            <p:cNvSpPr/>
            <p:nvPr/>
          </p:nvSpPr>
          <p:spPr>
            <a:xfrm>
              <a:off x="54741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691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41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94720" y="4695840"/>
            <a:ext cx="365760" cy="1250280"/>
            <a:chOff x="5994720" y="4695840"/>
            <a:chExt cx="365760" cy="1250280"/>
          </a:xfrm>
        </p:grpSpPr>
        <p:sp>
          <p:nvSpPr>
            <p:cNvPr id="407" name=""/>
            <p:cNvSpPr/>
            <p:nvPr/>
          </p:nvSpPr>
          <p:spPr>
            <a:xfrm>
              <a:off x="59947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5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6010560" y="5486400"/>
              <a:ext cx="349920" cy="459720"/>
              <a:chOff x="6010560" y="5486400"/>
              <a:chExt cx="349920" cy="459720"/>
            </a:xfrm>
          </p:grpSpPr>
          <p:sp>
            <p:nvSpPr>
              <p:cNvPr id="410" name=""/>
              <p:cNvSpPr/>
              <p:nvPr/>
            </p:nvSpPr>
            <p:spPr>
              <a:xfrm>
                <a:off x="60105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46200" y="548640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6264720" y="4695840"/>
            <a:ext cx="365760" cy="1250280"/>
            <a:chOff x="6264720" y="4695840"/>
            <a:chExt cx="365760" cy="1250280"/>
          </a:xfrm>
        </p:grpSpPr>
        <p:sp>
          <p:nvSpPr>
            <p:cNvPr id="413" name=""/>
            <p:cNvSpPr/>
            <p:nvPr/>
          </p:nvSpPr>
          <p:spPr>
            <a:xfrm>
              <a:off x="62647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758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280560" y="5486400"/>
              <a:ext cx="349920" cy="459720"/>
              <a:chOff x="6280560" y="5486400"/>
              <a:chExt cx="349920" cy="459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2805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1656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6537600" y="4695840"/>
            <a:ext cx="365760" cy="1250280"/>
            <a:chOff x="6537600" y="4695840"/>
            <a:chExt cx="365760" cy="1250280"/>
          </a:xfrm>
        </p:grpSpPr>
        <p:sp>
          <p:nvSpPr>
            <p:cNvPr id="419" name=""/>
            <p:cNvSpPr/>
            <p:nvPr/>
          </p:nvSpPr>
          <p:spPr>
            <a:xfrm>
              <a:off x="65376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84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553440" y="5486400"/>
              <a:ext cx="349920" cy="459720"/>
              <a:chOff x="6553440" y="5486400"/>
              <a:chExt cx="349920" cy="459720"/>
            </a:xfrm>
          </p:grpSpPr>
          <p:sp>
            <p:nvSpPr>
              <p:cNvPr id="422" name=""/>
              <p:cNvSpPr/>
              <p:nvPr/>
            </p:nvSpPr>
            <p:spPr>
              <a:xfrm>
                <a:off x="65534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89080" y="548640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6804360" y="4691160"/>
            <a:ext cx="365760" cy="1250280"/>
            <a:chOff x="6804360" y="4691160"/>
            <a:chExt cx="365760" cy="1250280"/>
          </a:xfrm>
        </p:grpSpPr>
        <p:sp>
          <p:nvSpPr>
            <p:cNvPr id="425" name=""/>
            <p:cNvSpPr/>
            <p:nvPr/>
          </p:nvSpPr>
          <p:spPr>
            <a:xfrm>
              <a:off x="6804360" y="469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5160" y="5087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820200" y="5481720"/>
              <a:ext cx="349920" cy="459720"/>
              <a:chOff x="6820200" y="5481720"/>
              <a:chExt cx="349920" cy="459720"/>
            </a:xfrm>
          </p:grpSpPr>
          <p:sp>
            <p:nvSpPr>
              <p:cNvPr id="428" name=""/>
              <p:cNvSpPr/>
              <p:nvPr/>
            </p:nvSpPr>
            <p:spPr>
              <a:xfrm>
                <a:off x="6820200" y="548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855840" y="548172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 First Out (FIF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that has been in memory lo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433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434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3278520" y="4691160"/>
              <a:ext cx="365760" cy="1250280"/>
              <a:chOff x="3278520" y="4691160"/>
              <a:chExt cx="365760" cy="1250280"/>
            </a:xfrm>
          </p:grpSpPr>
          <p:sp>
            <p:nvSpPr>
              <p:cNvPr id="460" name=""/>
              <p:cNvSpPr/>
              <p:nvPr/>
            </p:nvSpPr>
            <p:spPr>
              <a:xfrm>
                <a:off x="3278520" y="46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89320" y="5087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294360" y="5481720"/>
                <a:ext cx="349920" cy="459720"/>
                <a:chOff x="3294360" y="5481720"/>
                <a:chExt cx="349920" cy="45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294360" y="5481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330000" y="54817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466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471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474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78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71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383360" y="4695840"/>
            <a:ext cx="365760" cy="1250280"/>
            <a:chOff x="4383360" y="4695840"/>
            <a:chExt cx="365760" cy="1250280"/>
          </a:xfrm>
        </p:grpSpPr>
        <p:sp>
          <p:nvSpPr>
            <p:cNvPr id="479" name=""/>
            <p:cNvSpPr/>
            <p:nvPr/>
          </p:nvSpPr>
          <p:spPr>
            <a:xfrm>
              <a:off x="43833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99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94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053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188320" y="4695840"/>
            <a:ext cx="356400" cy="1250280"/>
            <a:chOff x="5188320" y="4695840"/>
            <a:chExt cx="356400" cy="1250280"/>
          </a:xfrm>
        </p:grpSpPr>
        <p:sp>
          <p:nvSpPr>
            <p:cNvPr id="484" name=""/>
            <p:cNvSpPr/>
            <p:nvPr/>
          </p:nvSpPr>
          <p:spPr>
            <a:xfrm>
              <a:off x="51897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948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188320" y="4695840"/>
              <a:ext cx="349920" cy="469800"/>
              <a:chOff x="5188320" y="4695840"/>
              <a:chExt cx="349920" cy="469800"/>
            </a:xfrm>
          </p:grpSpPr>
          <p:sp>
            <p:nvSpPr>
              <p:cNvPr id="487" name=""/>
              <p:cNvSpPr/>
              <p:nvPr/>
            </p:nvSpPr>
            <p:spPr>
              <a:xfrm>
                <a:off x="5188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135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5994720" y="4695840"/>
            <a:ext cx="354600" cy="1250280"/>
            <a:chOff x="5994720" y="4695840"/>
            <a:chExt cx="354600" cy="1250280"/>
          </a:xfrm>
        </p:grpSpPr>
        <p:sp>
          <p:nvSpPr>
            <p:cNvPr id="490" name=""/>
            <p:cNvSpPr/>
            <p:nvPr/>
          </p:nvSpPr>
          <p:spPr>
            <a:xfrm>
              <a:off x="5994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9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999400" y="4695840"/>
              <a:ext cx="349920" cy="469800"/>
              <a:chOff x="5999400" y="4695840"/>
              <a:chExt cx="349920" cy="469800"/>
            </a:xfrm>
          </p:grpSpPr>
          <p:sp>
            <p:nvSpPr>
              <p:cNvPr id="493" name=""/>
              <p:cNvSpPr/>
              <p:nvPr/>
            </p:nvSpPr>
            <p:spPr>
              <a:xfrm>
                <a:off x="5999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3576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6270840" y="4695840"/>
            <a:ext cx="356400" cy="1250280"/>
            <a:chOff x="6270840" y="4695840"/>
            <a:chExt cx="356400" cy="1250280"/>
          </a:xfrm>
        </p:grpSpPr>
        <p:sp>
          <p:nvSpPr>
            <p:cNvPr id="496" name=""/>
            <p:cNvSpPr/>
            <p:nvPr/>
          </p:nvSpPr>
          <p:spPr>
            <a:xfrm>
              <a:off x="6270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773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272640" y="5092560"/>
              <a:ext cx="349920" cy="470160"/>
              <a:chOff x="6272640" y="5092560"/>
              <a:chExt cx="349920" cy="470160"/>
            </a:xfrm>
          </p:grpSpPr>
          <p:sp>
            <p:nvSpPr>
              <p:cNvPr id="499" name=""/>
              <p:cNvSpPr/>
              <p:nvPr/>
            </p:nvSpPr>
            <p:spPr>
              <a:xfrm>
                <a:off x="62726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08640" y="510552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6532920" y="4695840"/>
            <a:ext cx="365760" cy="1250280"/>
            <a:chOff x="6532920" y="4695840"/>
            <a:chExt cx="365760" cy="1250280"/>
          </a:xfrm>
        </p:grpSpPr>
        <p:sp>
          <p:nvSpPr>
            <p:cNvPr id="502" name=""/>
            <p:cNvSpPr/>
            <p:nvPr/>
          </p:nvSpPr>
          <p:spPr>
            <a:xfrm>
              <a:off x="65329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44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6548760" y="5486400"/>
              <a:ext cx="349920" cy="459720"/>
              <a:chOff x="6548760" y="5486400"/>
              <a:chExt cx="349920" cy="459720"/>
            </a:xfrm>
          </p:grpSpPr>
          <p:sp>
            <p:nvSpPr>
              <p:cNvPr id="505" name=""/>
              <p:cNvSpPr/>
              <p:nvPr/>
            </p:nvSpPr>
            <p:spPr>
              <a:xfrm>
                <a:off x="6548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89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6805800" y="4695840"/>
            <a:ext cx="354960" cy="1250280"/>
            <a:chOff x="6805800" y="4695840"/>
            <a:chExt cx="354960" cy="1250280"/>
          </a:xfrm>
        </p:grpSpPr>
        <p:sp>
          <p:nvSpPr>
            <p:cNvPr id="508" name=""/>
            <p:cNvSpPr/>
            <p:nvPr/>
          </p:nvSpPr>
          <p:spPr>
            <a:xfrm>
              <a:off x="68058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108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805800" y="4695840"/>
              <a:ext cx="349920" cy="469800"/>
              <a:chOff x="6805800" y="4695840"/>
              <a:chExt cx="349920" cy="469800"/>
            </a:xfrm>
          </p:grpSpPr>
          <p:sp>
            <p:nvSpPr>
              <p:cNvPr id="511" name=""/>
              <p:cNvSpPr/>
              <p:nvPr/>
            </p:nvSpPr>
            <p:spPr>
              <a:xfrm>
                <a:off x="6805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263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grpSp>
          <p:nvGrpSpPr>
            <p:cNvPr id="514" name=""/>
            <p:cNvGrpSpPr/>
            <p:nvPr/>
          </p:nvGrpSpPr>
          <p:grpSpPr>
            <a:xfrm>
              <a:off x="3845160" y="4695840"/>
              <a:ext cx="354960" cy="1250280"/>
              <a:chOff x="3845160" y="4695840"/>
              <a:chExt cx="354960" cy="1250280"/>
            </a:xfrm>
          </p:grpSpPr>
          <p:sp>
            <p:nvSpPr>
              <p:cNvPr id="515" name=""/>
              <p:cNvSpPr/>
              <p:nvPr/>
            </p:nvSpPr>
            <p:spPr>
              <a:xfrm>
                <a:off x="38502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4516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5020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38671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21640" y="4695840"/>
            <a:ext cx="356040" cy="1250280"/>
            <a:chOff x="4121640" y="4695840"/>
            <a:chExt cx="356040" cy="1250280"/>
          </a:xfrm>
        </p:grpSpPr>
        <p:grpSp>
          <p:nvGrpSpPr>
            <p:cNvPr id="520" name=""/>
            <p:cNvGrpSpPr/>
            <p:nvPr/>
          </p:nvGrpSpPr>
          <p:grpSpPr>
            <a:xfrm>
              <a:off x="4121640" y="4695840"/>
              <a:ext cx="356040" cy="1250280"/>
              <a:chOff x="4121640" y="4695840"/>
              <a:chExt cx="356040" cy="1250280"/>
            </a:xfrm>
          </p:grpSpPr>
          <p:sp>
            <p:nvSpPr>
              <p:cNvPr id="521" name=""/>
              <p:cNvSpPr/>
              <p:nvPr/>
            </p:nvSpPr>
            <p:spPr>
              <a:xfrm>
                <a:off x="41216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230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7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1623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grpSp>
          <p:nvGrpSpPr>
            <p:cNvPr id="526" name=""/>
            <p:cNvGrpSpPr/>
            <p:nvPr/>
          </p:nvGrpSpPr>
          <p:grpSpPr>
            <a:xfrm>
              <a:off x="4654800" y="4695840"/>
              <a:ext cx="356400" cy="1250280"/>
              <a:chOff x="4654800" y="4695840"/>
              <a:chExt cx="356400" cy="1250280"/>
            </a:xfrm>
          </p:grpSpPr>
          <p:sp>
            <p:nvSpPr>
              <p:cNvPr id="527" name=""/>
              <p:cNvSpPr/>
              <p:nvPr/>
            </p:nvSpPr>
            <p:spPr>
              <a:xfrm>
                <a:off x="4654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566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6128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67676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16880" y="4695840"/>
            <a:ext cx="365760" cy="1250280"/>
            <a:chOff x="4916880" y="4695840"/>
            <a:chExt cx="365760" cy="1250280"/>
          </a:xfrm>
        </p:grpSpPr>
        <p:grpSp>
          <p:nvGrpSpPr>
            <p:cNvPr id="532" name=""/>
            <p:cNvGrpSpPr/>
            <p:nvPr/>
          </p:nvGrpSpPr>
          <p:grpSpPr>
            <a:xfrm>
              <a:off x="4916880" y="4695840"/>
              <a:ext cx="365760" cy="1250280"/>
              <a:chOff x="4916880" y="4695840"/>
              <a:chExt cx="365760" cy="1250280"/>
            </a:xfrm>
          </p:grpSpPr>
          <p:sp>
            <p:nvSpPr>
              <p:cNvPr id="533" name=""/>
              <p:cNvSpPr/>
              <p:nvPr/>
            </p:nvSpPr>
            <p:spPr>
              <a:xfrm>
                <a:off x="491688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280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3272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49435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400" y="4695840"/>
            <a:ext cx="365760" cy="1250280"/>
            <a:chOff x="5450400" y="4695840"/>
            <a:chExt cx="365760" cy="1250280"/>
          </a:xfrm>
        </p:grpSpPr>
        <p:grpSp>
          <p:nvGrpSpPr>
            <p:cNvPr id="538" name=""/>
            <p:cNvGrpSpPr/>
            <p:nvPr/>
          </p:nvGrpSpPr>
          <p:grpSpPr>
            <a:xfrm>
              <a:off x="5450400" y="4695840"/>
              <a:ext cx="365760" cy="1250280"/>
              <a:chOff x="5450400" y="4695840"/>
              <a:chExt cx="365760" cy="1250280"/>
            </a:xfrm>
          </p:grpSpPr>
          <p:sp>
            <p:nvSpPr>
              <p:cNvPr id="539" name=""/>
              <p:cNvSpPr/>
              <p:nvPr/>
            </p:nvSpPr>
            <p:spPr>
              <a:xfrm>
                <a:off x="5450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612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62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4673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721840" y="4695840"/>
            <a:ext cx="356040" cy="1250280"/>
            <a:chOff x="5721840" y="4695840"/>
            <a:chExt cx="356040" cy="1250280"/>
          </a:xfrm>
        </p:grpSpPr>
        <p:grpSp>
          <p:nvGrpSpPr>
            <p:cNvPr id="544" name=""/>
            <p:cNvGrpSpPr/>
            <p:nvPr/>
          </p:nvGrpSpPr>
          <p:grpSpPr>
            <a:xfrm>
              <a:off x="5721840" y="4695840"/>
              <a:ext cx="356040" cy="1250280"/>
              <a:chOff x="5721840" y="4695840"/>
              <a:chExt cx="356040" cy="1250280"/>
            </a:xfrm>
          </p:grpSpPr>
          <p:sp>
            <p:nvSpPr>
              <p:cNvPr id="545" name=""/>
              <p:cNvSpPr/>
              <p:nvPr/>
            </p:nvSpPr>
            <p:spPr>
              <a:xfrm>
                <a:off x="57218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232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279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5784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th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same reference stream and number of available 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caused 10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U caused 16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FU caused 12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caused 16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rimary Memory (RAM) is divided into fixed size partitions we call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rocesses also divided into same sized partitions we call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esult: almost no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cess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of the process is on Secondary Memory (H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of the process pages are loaded into frames in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AM, the frames allocated to a process need not be contig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ge 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map pages to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’s the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more processes can run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ell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locality behaviou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-supported by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Paging System must be able to translate eac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irtual addr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to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 = &lt;page/frame num, offs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: 32 bits = &lt;24 bits, 8 bits&gt;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7721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ages, 256 locations per pag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C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981080"/>
            <a:ext cx="3352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6560" y="20210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3880" y="202104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73440" y="4684680"/>
            <a:ext cx="3352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5360" y="4724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3400" y="47242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21360" y="4684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2004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00680" y="3408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038480"/>
            <a:ext cx="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590920"/>
            <a:ext cx="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9040" y="20210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800" y="48006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2720" y="320040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5812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Reference 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given process, the page reference stream is the list of virtual page numbers ordered according to when they are 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Process with 5 pag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2, 3, 1, 2, 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Pag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process starts, it is allocated 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umber of frames in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ing Policies: defines how pages will be loaded/unloaded into frames allocated to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asic Paging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ch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ag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a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lacement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ll frames are full,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ch 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ment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etched pag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21:12Z</dcterms:created>
  <dc:creator>Antonio Maiorano</dc:creator>
  <dc:description/>
  <dc:language>en-US</dc:language>
  <cp:lastModifiedBy>Aiman Hanna</cp:lastModifiedBy>
  <dcterms:modified xsi:type="dcterms:W3CDTF">2002-03-25T02:24:05Z</dcterms:modified>
  <cp:revision>94</cp:revision>
  <dc:subject/>
  <dc:title>Deadlock with Semapho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27885154</vt:r8>
  </property>
  <property fmtid="{D5CDD505-2E9C-101B-9397-08002B2CF9AE}" pid="3" name="_AuthorEmail">
    <vt:lpwstr>dimarco@cs.concordia.ca</vt:lpwstr>
  </property>
  <property fmtid="{D5CDD505-2E9C-101B-9397-08002B2CF9AE}" pid="4" name="_AuthorEmailDisplayName">
    <vt:lpwstr>Paul Di Marco</vt:lpwstr>
  </property>
  <property fmtid="{D5CDD505-2E9C-101B-9397-08002B2CF9AE}" pid="5" name="_EmailSubject">
    <vt:lpwstr/>
  </property>
</Properties>
</file>