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FE7-D103-4AFB-B902-4DD096BA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E8D-A7FE-496A-80A7-019BF70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96A-2010-4765-BA19-9309A844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907-5F05-4D56-B05D-0134A8DA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CAF-5D6F-4A78-8F67-01757A2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438-2F70-4E6D-956A-9C1D9D8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3F3-21BA-472B-8574-1A068DCB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BC1-34B5-4FB6-A6DF-1DCEFFE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ED2-5D57-4523-B806-0404620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984-A079-4BD3-AA91-3160156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A2C-DD1C-4D8C-B3A2-F20FF71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BD0-B756-423F-A9DB-60E7F2F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8BA-0B0B-49FC-ACA6-2B9D185A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Java program so that 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s produced at runtime plus any initial messages are consu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Do not alter the initial state of the buffer or the production of messages.  Modify the consumption of messages by making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modification to the main 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mplest solution would involve changing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sumer thread tak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Java program so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s produce two consecutive messages with each 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take.  For example, producer 1 deposits 161 and 162 (162 = 161 + 1) in two _contiguous_ buffer slots as his first step.  (161 = step 1, value 6, phase 1)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ducer must reserve two contiguous buffer slots atomically with respect to other produc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messages produced at runtime plus any initial messages are consu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now there are more messages (in fac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Note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s still remove one message at a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 to denote number of 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good enough to contr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pecific s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posit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member when we talked about AND-Synchroniz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te tha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r can ever deposit at one time because we us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. This makes the solution simpler than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rs could deposit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r/Consumer Pseudo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*|*|*| | | | | | | |*|*|*|*|  0-indexed  [0..n -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^ --&gt;         ^ 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r         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last filled) (last empti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proc' deposit (m : mtype) =      'proc' remove ('var' m : mtyp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begin'                           'begi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 (slot)                       wait (mess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 (sender)                     wait (rece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r &lt;-- (rear + 1) [n]          front &lt;-- (front + 1) 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f[rear] &lt;-- m                   m &lt;-- buf[fro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 (sender)                   signal (rece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 (message)                  signal (s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end'                             'en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[slot]    = n   init[sender]   = 1    front = rea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[message] = 0   init[receiver]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 Expl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number of slots available to deposit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number of messages ready to b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mutex for Producers (sen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mutex for Consumers (recei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chronize production and consumption, ensuring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umer only consumes when there are messages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ducer only produces if there are empty slots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n P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steps = 4;  // process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len = 8;  // buffer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slot = new Semaphore(4); // slot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message = new Semaphore(4); // messag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buf[] = new int[] {0, 200, 200, 200, 200, 0, 0, 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Producer extends Threa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rear = 4;  // rear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sender = new Semaphore(1); // producer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nsumer extends Threa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front = 0;  // front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receiver = new Semaphore(1); // consumer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ducers created with tids: 1, 2, 3, 4 and values: 6, 7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nsumers created with tids: 1, 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dded to ready queue in following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, C1, P2, C2, P3, C3, P4, C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ru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PC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s a value to depos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 = 100 * tid + 10 * val + (j +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3 digit number [tid, val, odd nu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Deposi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u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PC.steps number of times (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emove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Deposit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slot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der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r = (rear + 1) % PC.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buf[rear] = s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 ("Production:  " + PC.buf[rea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 into slot " + re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der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message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s pseudocode for proc ‘deposi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emove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message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eiver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(front + 1) % PC.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r = PC.buf[fron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 ("Consumption: " + PC.buf[fron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 from slot " + fr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eiver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slot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s pseudocode for proc ‘remov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30:20Z</dcterms:created>
  <dc:creator>Antonio Maiorano</dc:creator>
  <dc:description/>
  <dc:language>en-US</dc:language>
  <cp:lastModifiedBy>FRAPS</cp:lastModifiedBy>
  <dcterms:modified xsi:type="dcterms:W3CDTF">2002-03-27T12:47:14Z</dcterms:modified>
  <cp:revision>20</cp:revision>
  <dc:subject/>
  <dc:title>Tutorial 8</dc:title>
</cp:coreProperties>
</file>