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499-2B6B-4016-913B-84B83ABF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F54-F288-4132-86F1-F86F518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1E8-216B-4ACB-8B6D-585C812C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FA4-F950-4418-8D2A-C568D84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B8-CD87-4229-A302-421F8DD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E9C-69C4-4994-8B40-FD9D377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771-BD4D-413F-B0EF-B5EEC1D8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29F-D5CE-43EB-9825-99AF5B1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231-400E-46BD-A217-FCF4E5FB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1DD-39C3-4678-B84C-58F6797B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1F0-5337-42F7-9DB4-961B2BB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119-55AC-4571-AA22-24AD57D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9A9-3E21-4017-9EAA-EFA890DAB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’re going to help: Java and course-rela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ribe to mailing list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mailhost.cs.concordia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"Hello World!"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to Java, similarities and dif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: “.java”, contains interface +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perator over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ointers, only references: primitives and non-primitives (class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letion: Garbag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 an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java.sun.com/docs/books/tutoria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Getting Start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Essential Java Classes” (*Thre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“Learning the Java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applets, gui, JFC/SWing, 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86728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 346: Operating Systems, Wint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ntonio Maiorano &amp; Paul Di M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05:03:27Z</dcterms:created>
  <dc:creator>Home</dc:creator>
  <dc:description/>
  <dc:language>en-US</dc:language>
  <cp:lastModifiedBy>Home</cp:lastModifiedBy>
  <dcterms:modified xsi:type="dcterms:W3CDTF">2002-01-16T05:30:47Z</dcterms:modified>
  <cp:revision>3</cp:revision>
  <dc:subject/>
  <dc:title>Introduction</dc:title>
</cp:coreProperties>
</file>