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F3E7-E043-4D43-9B7C-1E8E3C55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325B-F119-4D27-9368-CA487D6A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B6E9-6D97-41C9-B45F-78976A5A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04C0-18B3-4594-93CE-C29690D5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D0A5-DFB0-4B78-973D-90975365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C192-7E1E-468E-BD51-1709E36D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DFFC-000B-4AAE-B633-2D1B3458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BC52-DA89-492C-AD41-C7608EBA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C3F8-38D2-4EBE-9C6F-BE69FACA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3131-89FD-4B22-8CA2-72CB0682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C8AE-1320-42CA-BBA6-2632A8A2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7CD7-BC56-41BE-A88E-634DA686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AD40-AC3C-4600-BE40-90CBB8270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ection &amp; Secur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onio Maior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 Di Mar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ed for secur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’s world, companies store tons of information on comput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of this information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ns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must b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t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eans that only certain people should be allowed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cy &amp; Mecha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ules for authorizing access to computers and its information (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Only students registered in courses that require Windows NT are allowed to use the NT systems in the l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chan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ools used to implement the policies (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OS uses a course list with student names to know who’s allowed to log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Policy &amp; Mecha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ies are selected by computer administ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chanisms are implemented in the OS when it is necessary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uarant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they perform the function they were intend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talk about two classes of mechanis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rnal Authentication (E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s whether a user is really the person he/she claims 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supplying username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ss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 Mechanism in OS mu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uarant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it cannot be bypassed by a series of devious actions (… telnet vs. ssh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: User Authent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te user authentication is 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ossible beca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name/password may be shared by many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may leave password in public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word may be easy to gu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situation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inal s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Authentication (I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s that a process cannot appear to be a process other than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ther words, a user should not be allowed to create a process that appears to belong to another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A mechanism is not implemented, then even the best EA means noth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A: Network Authent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popularity of internet/e-mail has grown, network security is a big 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backdoors that breach IA: viruses, worm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Unix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ng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m that launched a shell when it crash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Internet Explorer that ran executables tagged as HTML doc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3T04:50:31Z</dcterms:created>
  <dc:creator>Home</dc:creator>
  <dc:description/>
  <dc:language>en-US</dc:language>
  <cp:lastModifiedBy>Home</cp:lastModifiedBy>
  <dcterms:modified xsi:type="dcterms:W3CDTF">2002-04-03T05:59:36Z</dcterms:modified>
  <cp:revision>14</cp:revision>
  <dc:subject/>
  <dc:title>Tutorial 10</dc:title>
</cp:coreProperties>
</file>