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3CB-20B7-4AD7-B033-8574D14D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651-1CCC-4739-9ABD-86CF8EB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955-3539-472A-90C5-A5111BE2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A42-60C0-4C4D-B761-93E68D50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836-1C3D-47A2-AB49-297DA85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6B6-60EF-4472-8DD4-EFCAFB9A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4E6-1B66-4FC4-B51D-E08020D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AC0-BD73-4CA2-BFCB-54983F3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0A5-92F8-4C86-89C1-56535422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D3E-FC15-4547-A899-6E89AA2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E5A-5A55-476D-8747-BE52CD5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2BC-9CBD-4FBD-8281-176D612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54A-0C8A-497F-A839-652D7D00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6 functions in the Monitor class to satisfy the synchronization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read(), end_rea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write1(), end_write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_write2(), end_write2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ru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RW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W.monitor.request_read() at start, and RW.monitor.end_read() a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: reads values in the 3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: Insert a yield() anywhere between the reads so that the assignment actually doesn’t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r’s ru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loops RW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code for A-Writers and B-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W.monitor.request_write() at start, and RW.monitor.end_write() a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: Writes a value to a slot in the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W’s mai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4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2 A-Writers: AW1, AW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2 B-Writers: BW3, B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them to ready queue in following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1, BW3, AW2, BW4, R1, R2, R3, 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6 functions are empty – your task is to write these 6 functions so that the threads obey the rules of the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6 function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use only wait() and notifyAll() to control context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4 asks you to solve the multiple Readers, multiple Writers proble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given in the assignment can be confusing; let’s first try to make it clear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 &amp;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Wri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riters of type ‘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riters of type ‘B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riters and B-Writers differ by which slots they can each write to in the datab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tabase (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W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dbase[] = new int[] {99, -1, -1}; // data base; slo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O, R/W, R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has 3 slo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0 : Read-only, basically 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1 : Can only be written to by A-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 2 : Can only be written to by B-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s always read all 3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tart, DB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slots 1 and 2 contain ‘-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beco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oon as Writers overwrite the ‘-1’ values in the two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mains defin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s can’t start reading until DB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ok for Writers to define the DB many times before the first Reader reads it – in other words, Writers can write to their slot even if it hasn’t been rea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a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maphores may be used – must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i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fyAll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within the Monito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riters and B-Writers take strict turns (A, B, A, B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have priority over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yn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Writer starts writing, no other Writer/Reader is allowed to write/read until the current Writer is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Reader starts reading, other Readers are allowed to read before current Reader is finished (they can all read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2:36:15Z</dcterms:created>
  <dc:creator>Home</dc:creator>
  <dc:description/>
  <dc:language>en-US</dc:language>
  <cp:lastModifiedBy>Home</cp:lastModifiedBy>
  <dcterms:modified xsi:type="dcterms:W3CDTF">2002-04-10T04:31:11Z</dcterms:modified>
  <cp:revision>7</cp:revision>
  <dc:subject/>
  <dc:title>Tutorial 11</dc:title>
</cp:coreProperties>
</file>