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23F-F933-42EF-8F57-E372FD79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[] = {a b c d $ $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en main() waits for the two threads to join(), which thread starts running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en this thread yields, which thread runs nex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e perform HALF of the PUSH operation before we yield() -&gt; we only move the stack pointer, we haven’t put the value there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= 4 // 3 -&gt;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Performs a full POP operation – moving the stack pointer down – effectively undoing the HALF PUSH we saw bef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= 3 // 4 -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Completes the PUSH operation by placing a value on the stack – but it’s not at the expected pos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[] = {a b c e $ $} // d -&gt;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threads of higher priority are scheduled before threads of lower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Java does not guarantee this; sometimes a lower priority thread will be allowed to run to prevent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Runnable = On ready queu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us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o longer “block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So after start creates a thread, what does that thread execu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dea is platform independent, but also in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er versions are more platform dependent to make it more 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es against the ideology of Java, but was need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*********Add arrows to show inheritance and that loop yiel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You must enclose the “join()” calls in a try-catch block as shown. If you don’t do it, IT WON’T COMPILE and you’ll be confused and send me an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do it, maybe explain exceptions later or anoth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A40-37CC-4E83-8742-26E40C22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871-82AD-4C46-A2E5-400D491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E71-5DFF-45DE-AD0A-E097CB40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F10-CC8D-4008-88EE-CD503DF4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317-30A0-41DE-AF22-59EB6A5B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024-2EE8-46DD-8C96-514BDBBB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29D-4409-437F-B76D-C7639472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8F2-C839-411D-B83F-4B3BDD2A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600-2C3F-4C61-BF86-CBB3A50C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400-F42F-454F-8673-99CF1A52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E06-453F-4A8C-9D72-1447E32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98D-66F3-4DBB-9301-665183A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2CE5-4CB4-47D3-A8A7-D2813657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s in 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7920" y="457200"/>
            <a:ext cx="63244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(String[]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Main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Main thread will now fork two thread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quireBlock t1 = new Acquir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Block t2 = new Releas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2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1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  {   // main thread waits for thread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1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2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catch (InterruptedException e) {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System terminates normall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in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-1 = " + stack[top-1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990720"/>
            <a:ext cx="6019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066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457200"/>
            <a:ext cx="73911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top = Block.top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in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to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returns  Ms block " + block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o position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stack[Block.top] = 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stack top = " + Block.stack[Block.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609480"/>
            <a:ext cx="609840" cy="1219320"/>
          </a:xfrm>
          <a:custGeom>
            <a:avLst/>
            <a:gdLst/>
            <a:ahLst/>
            <a:rect l="l" t="t" r="r" b="b"/>
            <a:pathLst>
              <a:path w="384" h="768">
                <a:moveTo>
                  <a:pt x="384" y="0"/>
                </a:moveTo>
                <a:lnTo>
                  <a:pt x="0" y="240"/>
                </a:lnTo>
                <a:lnTo>
                  <a:pt x="0" y="480"/>
                </a:lnTo>
                <a:lnTo>
                  <a:pt x="384" y="768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04920"/>
            <a:ext cx="73152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requests Ms block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top = 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obtains  Ms block " + copy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from position " + old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top = Block.top -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de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: Current value of stack top = " + Block.stack[Block.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060200" cy="5019840"/>
          </a:xfrm>
          <a:custGeom>
            <a:avLst/>
            <a:gdLst/>
            <a:ahLst/>
            <a:rect l="l" t="t" r="r" b="b"/>
            <a:pathLst>
              <a:path w="668" h="2106">
                <a:moveTo>
                  <a:pt x="488" y="2106"/>
                </a:moveTo>
                <a:lnTo>
                  <a:pt x="8" y="1626"/>
                </a:lnTo>
                <a:lnTo>
                  <a:pt x="0" y="422"/>
                </a:lnTo>
                <a:lnTo>
                  <a:pt x="66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457200"/>
            <a:ext cx="73911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top = Block.top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in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.to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returns  Ms block " + block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o position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stack[Block.top] = 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stack top = " + Block.stack[Block.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685800" cy="14479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432" y="0"/>
                </a:moveTo>
                <a:lnTo>
                  <a:pt x="0" y="288"/>
                </a:lnTo>
                <a:lnTo>
                  <a:pt x="0" y="912"/>
                </a:lnTo>
                <a:lnTo>
                  <a:pt x="432" y="120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04920"/>
            <a:ext cx="73152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requests Ms block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top = 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obtains  Ms block " + copy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 from position " + old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 = Block.stack[oldtop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top = Block.top -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de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Block.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:Current value of stack top=" + Block.stack[Block.top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Acquir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51200"/>
            <a:ext cx="844560" cy="4449600"/>
          </a:xfrm>
          <a:custGeom>
            <a:avLst/>
            <a:gdLst/>
            <a:ahLst/>
            <a:rect l="l" t="t" r="r" b="b"/>
            <a:pathLst>
              <a:path w="532" h="2803">
                <a:moveTo>
                  <a:pt x="432" y="2803"/>
                </a:moveTo>
                <a:lnTo>
                  <a:pt x="0" y="2515"/>
                </a:lnTo>
                <a:lnTo>
                  <a:pt x="0" y="403"/>
                </a:lnTo>
                <a:lnTo>
                  <a:pt x="53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457200"/>
            <a:ext cx="73911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top = Block.top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ReleaseBlock increments pointer to " + new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.to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returns  Ms block " + block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 to position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.stack[Block.top] = 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top = " + Block.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: Current value of stack top=" + Block.stack[Block.top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ReleaseBlock thread terminat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9480" y="1066680"/>
            <a:ext cx="844560" cy="2941920"/>
          </a:xfrm>
          <a:custGeom>
            <a:avLst/>
            <a:gdLst/>
            <a:ahLst/>
            <a:rect l="l" t="t" r="r" b="b"/>
            <a:pathLst>
              <a:path w="532" h="2803">
                <a:moveTo>
                  <a:pt x="432" y="2803"/>
                </a:moveTo>
                <a:lnTo>
                  <a:pt x="0" y="2515"/>
                </a:lnTo>
                <a:lnTo>
                  <a:pt x="0" y="403"/>
                </a:lnTo>
                <a:lnTo>
                  <a:pt x="53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457200"/>
            <a:ext cx="63244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(String[]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Main thread starts execut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Initi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Main thread will now fork two thread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reBlock t1 = new Acquir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Block t2 = new ReleaseBlo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.start();     // added to ready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 {   // main thread waits for thread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catch (InterruptedException e) {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System terminates normall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Final value of top = " + top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 = " + stack[top] + "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Final value of stack top-1 = " + stack[top-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quir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easeBlo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nds Thread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990720"/>
            <a:ext cx="6019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844560" cy="1904760"/>
          </a:xfrm>
          <a:custGeom>
            <a:avLst/>
            <a:gdLst/>
            <a:ahLst/>
            <a:rect l="l" t="t" r="r" b="b"/>
            <a:pathLst>
              <a:path w="532" h="2803">
                <a:moveTo>
                  <a:pt x="432" y="2803"/>
                </a:moveTo>
                <a:lnTo>
                  <a:pt x="0" y="2515"/>
                </a:lnTo>
                <a:lnTo>
                  <a:pt x="0" y="403"/>
                </a:lnTo>
                <a:lnTo>
                  <a:pt x="53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152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1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371600"/>
            <a:ext cx="83217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n thread starts execu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value of stack top =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n thread will now fork two thre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thread starts execu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starts execu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increments pointer to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requests Ms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obtains  Ms block $ from position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decrements pointer t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: Current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: Current value of stack top =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quireBlock thread termin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thread returns  Ms block e to position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: Current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: Current value of stack top =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easeBlock thread termin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 terminates norm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value of top =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value of stack top =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value of stack top-1 =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 Scheduling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of multiple threads in some order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uses a simple, deterministic scheduling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xed priority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of the same priority are chosen to run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-rob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reads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hread runs until one of following occ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priority thread goes o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y que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thus, preempts current th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yields, or it’s run() ex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ime-slicing supported systems, it’s time allotment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Threads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our main functions of inter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the function the thread executes (you provide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creates a new thread and puts it on the ready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wait for this thread’s run()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yields the cpu to the next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 why Java 1.2.1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1.2.1 and prior: Java VM controls thread scheduling, rather than the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me-s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take advantage of multiple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all yield() to allow other threads to run (of the same prio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Threa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143000"/>
            <a:ext cx="81532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hreadTest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MyThread extends Threa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MyThread(String 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name = 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1; i &lt;= 6; ++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name + ": " + 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 ==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(); // Let other thread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Thread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0666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ThreadTes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Thread t1 = new MyThread("Alph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Thread t2 = new MyThread("Be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chedule threads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This is in the main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Wait for threads to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.jo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.jo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nterruptedException e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End of main(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06668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in the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of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257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Assign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a typica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cquire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“pop”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Release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“push”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see what can happen if push and pop operations are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s = main store – British termi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23:12:31Z</dcterms:created>
  <dc:creator>FRAPS</dc:creator>
  <dc:description/>
  <dc:language>en-US</dc:language>
  <cp:lastModifiedBy>Home</cp:lastModifiedBy>
  <dcterms:modified xsi:type="dcterms:W3CDTF">2002-01-28T02:11:57Z</dcterms:modified>
  <cp:revision>16</cp:revision>
  <dc:subject/>
  <dc:title>Tutorial 2</dc:title>
</cp:coreProperties>
</file>