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EDB-7A5D-4491-A766-C71C8EA2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191-2DC8-4C1D-B68D-9375CA7F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0D1-777B-45CD-B581-E469CD8E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BE7-7CFE-44F4-B98A-4B3F4903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51D-EA41-40C9-AC84-E5FAE6DF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33A-A659-44FB-B4BB-9FC2B6D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37F-F8EC-47F2-9A50-21512524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BA1-36EE-4780-B76E-A7C6DD7C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5A5-9247-4881-9D92-AEC6C26A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767-D14D-4F3D-9BF9-D95A27FC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88B-1635-4F6A-AC07-3B66145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D76-18F4-4955-A419-193EE87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155D-2578-474E-BFD1-B2C03EE2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 or s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Di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ake matters wor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un() functions not mutually exclusive – yields are inser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 go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he Acquires wait for the Releases to finish – the Acquires are put on the ready queue fir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Queue after all threads are created: main &gt; A1 &gt; A2 &gt; R1 &gt;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yield(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t crucial junctur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ield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represent what could be a time-slice context-switch in a “real-world”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352680"/>
            <a:ext cx="7848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Block.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easeBlock 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yield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ush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ock.stack[Block.top] = block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724280"/>
            <a:ext cx="7848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ock = Block.stack[Block.top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quireBlock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yield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op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-Block.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phore Initi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e mutex and semaphor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d to different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tex is initialized to one to allow only one thread into the critical section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prisem’ semaphores are initialized to zero to allow no Acquires to run (initi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- Assignment Solu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h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utual-exclusion semaphore to make ‘acquire’ and ‘release’ atom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wo ‘prisem’ semaphores to enforce the ordering that all ReleaseBlock threads must complete before any AcquireBlock threads can beg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p of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pourer” (pro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drinker” (consu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A m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2286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962520"/>
            <a:ext cx="2362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u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wha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toc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er pours only when cup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er drinks only when cup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full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u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have two drink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drinkers can drink at the sam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ull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657600"/>
            <a:ext cx="2514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648320"/>
            <a:ext cx="2362320" cy="83808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816" y="0"/>
                </a:moveTo>
                <a:lnTo>
                  <a:pt x="1440" y="0"/>
                </a:lnTo>
                <a:lnTo>
                  <a:pt x="1440" y="528"/>
                </a:lnTo>
                <a:lnTo>
                  <a:pt x="0" y="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724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his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! So how can we do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emapho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maphore is an object used to synchronize multiple th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() :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() : release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functions are guaranteed to be at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ph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riving at a restaurant with only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 = Semap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=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Seats = 10 Limited resources controlled using the semap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phore Java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emapho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maphore (int value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 = valu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ynchronized void Wait 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value &lt;= 0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 { wait 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InterruptedException e) {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ynchronized void Signal 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ify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emaphores, we can make sure that only one drinker can ever drink at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Wait() and Signal() are guaranteed to be atom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rinkers? No probl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2819520"/>
            <a:ext cx="25146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er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tru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.Wai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in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819520"/>
            <a:ext cx="4190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emaphor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phore cu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p = new Semaphore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8288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Assignmen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n() of Acquire and Release are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itical s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ence they could leave Block in an inconsistent internal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s are not to run before the Release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2:37:03Z</dcterms:created>
  <dc:creator>Paul Di Marco</dc:creator>
  <dc:description/>
  <dc:language>en-US</dc:language>
  <cp:lastModifiedBy>FRAPS</cp:lastModifiedBy>
  <dcterms:modified xsi:type="dcterms:W3CDTF">2002-01-29T06:03:32Z</dcterms:modified>
  <cp:revision>28</cp:revision>
  <dc:subject/>
  <dc:title>Tutorial 3</dc:title>
</cp:coreProperties>
</file>