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057-A3AE-47D1-ABB4-40C62E15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Q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 needs to do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 finishes I/O; is appended to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needs to go do I/O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I/O, goes back on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 finishes executing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needs to go do I/O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I/O, goes on ready 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3 finishes after 1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No Idle Ti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3A3-5212-4737-A47E-5D9D3293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431-30CD-4437-AB93-632DC915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936-D782-479B-8076-3147D1AB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6D5-6C7F-4704-B2AC-E5818D6C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2D8-B80E-41F5-90F8-8D65383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C5D-A22D-4088-B37B-ACE11A4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D18-752C-4E81-AF2C-FE0B5BA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DD5-8564-4735-94A8-141D368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141-44F4-47FF-822F-B565943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41B-4526-4B72-A118-07707A7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40F-82EB-486D-9E14-84A9082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E84-4955-4EDC-A92B-DA00521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027-CC98-4852-A925-A0BC05121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st Job First (Preempti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3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5638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441972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y (Preempti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0880" y="1447920"/>
          <a:ext cx="8483760" cy="2117520"/>
        </p:xfrm>
        <a:graphic>
          <a:graphicData uri="http://schemas.openxmlformats.org/drawingml/2006/table">
            <a:tbl>
              <a:tblPr/>
              <a:tblGrid>
                <a:gridCol w="1314720"/>
                <a:gridCol w="8175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21337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5176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004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4197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4419720"/>
            <a:ext cx="19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39720" y="1447920"/>
          <a:ext cx="7666200" cy="2117520"/>
        </p:xfrm>
        <a:graphic>
          <a:graphicData uri="http://schemas.openxmlformats.org/drawingml/2006/table">
            <a:tbl>
              <a:tblPr/>
              <a:tblGrid>
                <a:gridCol w="131472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5238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5176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51004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436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00800" y="441972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124080" y="3886200"/>
            <a:ext cx="304920" cy="909720"/>
            <a:chOff x="3124080" y="3886200"/>
            <a:chExt cx="304920" cy="909720"/>
          </a:xfrm>
        </p:grpSpPr>
        <p:grpSp>
          <p:nvGrpSpPr>
            <p:cNvPr id="395" name=""/>
            <p:cNvGrpSpPr/>
            <p:nvPr/>
          </p:nvGrpSpPr>
          <p:grpSpPr>
            <a:xfrm>
              <a:off x="3124080" y="3886200"/>
              <a:ext cx="304920" cy="909720"/>
              <a:chOff x="3124080" y="3886200"/>
              <a:chExt cx="304920" cy="90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3200400" y="4419720"/>
                <a:ext cx="152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4080" y="3886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27672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05520" y="3886200"/>
            <a:ext cx="380880" cy="909720"/>
            <a:chOff x="5105520" y="3886200"/>
            <a:chExt cx="380880" cy="909720"/>
          </a:xfrm>
        </p:grpSpPr>
        <p:grpSp>
          <p:nvGrpSpPr>
            <p:cNvPr id="400" name=""/>
            <p:cNvGrpSpPr/>
            <p:nvPr/>
          </p:nvGrpSpPr>
          <p:grpSpPr>
            <a:xfrm>
              <a:off x="5105520" y="3886200"/>
              <a:ext cx="380880" cy="909720"/>
              <a:chOff x="5105520" y="3886200"/>
              <a:chExt cx="380880" cy="909720"/>
            </a:xfrm>
          </p:grpSpPr>
          <p:sp>
            <p:nvSpPr>
              <p:cNvPr id="401" name=""/>
              <p:cNvSpPr/>
              <p:nvPr/>
            </p:nvSpPr>
            <p:spPr>
              <a:xfrm>
                <a:off x="5181480" y="4419720"/>
                <a:ext cx="15264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0552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5780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257800" y="3886200"/>
            <a:ext cx="304920" cy="909720"/>
            <a:chOff x="5257800" y="3886200"/>
            <a:chExt cx="304920" cy="909720"/>
          </a:xfrm>
        </p:grpSpPr>
        <p:grpSp>
          <p:nvGrpSpPr>
            <p:cNvPr id="405" name=""/>
            <p:cNvGrpSpPr/>
            <p:nvPr/>
          </p:nvGrpSpPr>
          <p:grpSpPr>
            <a:xfrm>
              <a:off x="5257800" y="3886200"/>
              <a:ext cx="304920" cy="909720"/>
              <a:chOff x="5257800" y="3886200"/>
              <a:chExt cx="304920" cy="909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334120" y="4419720"/>
                <a:ext cx="152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57800" y="3886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41008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934320" y="3886200"/>
            <a:ext cx="304560" cy="909720"/>
            <a:chOff x="6934320" y="3886200"/>
            <a:chExt cx="304560" cy="909720"/>
          </a:xfrm>
        </p:grpSpPr>
        <p:grpSp>
          <p:nvGrpSpPr>
            <p:cNvPr id="410" name=""/>
            <p:cNvGrpSpPr/>
            <p:nvPr/>
          </p:nvGrpSpPr>
          <p:grpSpPr>
            <a:xfrm>
              <a:off x="6934320" y="3886200"/>
              <a:ext cx="304560" cy="909720"/>
              <a:chOff x="6934320" y="3886200"/>
              <a:chExt cx="304560" cy="909720"/>
            </a:xfrm>
          </p:grpSpPr>
          <p:sp>
            <p:nvSpPr>
              <p:cNvPr id="411" name=""/>
              <p:cNvSpPr/>
              <p:nvPr/>
            </p:nvSpPr>
            <p:spPr>
              <a:xfrm>
                <a:off x="7010280" y="4419720"/>
                <a:ext cx="15192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38862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708660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781680" y="3886200"/>
            <a:ext cx="304560" cy="909720"/>
            <a:chOff x="6781680" y="3886200"/>
            <a:chExt cx="304560" cy="909720"/>
          </a:xfrm>
        </p:grpSpPr>
        <p:grpSp>
          <p:nvGrpSpPr>
            <p:cNvPr id="415" name=""/>
            <p:cNvGrpSpPr/>
            <p:nvPr/>
          </p:nvGrpSpPr>
          <p:grpSpPr>
            <a:xfrm>
              <a:off x="6781680" y="3886200"/>
              <a:ext cx="304560" cy="909720"/>
              <a:chOff x="6781680" y="3886200"/>
              <a:chExt cx="304560" cy="909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857640" y="4419720"/>
                <a:ext cx="15192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81680" y="38862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93396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pping Scheduling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1.2.1 and prior (“green”)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managed by Java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run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is only taken off the CPU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locks (on a re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er priority thread becomes runnable (not al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-Style Scheduling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1.2.1 versions of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managed by the host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ultiple threads to run “concurrent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is taken off the CPU as in previous versions, but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s time quantum expires (if supported by 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schedu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nage processes according to requirements of a system,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responsiven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f a scheduler is determined mainly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witc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, 3, 4, 5, 6, Context Swit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from one process running on the CPU to anoth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all the registers of outgoing process (to memory), then loads all the registers of incoming process (from mem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time-costly; mostly hardware-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 that deter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PU will be allocated to processes, and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scheduling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preemptive (aka Ba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preemptiv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ny process to run to completion once it has been allocated to the CPU. Current process does not get interrup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e First Serve (FC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st Job Next (SJ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emptiv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nother process to interrupt current process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quantum has elap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-leve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ree threads, their execution times and I/O needs, apply scheduling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re placed on ready queue in order: T1, T2 then T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ecific to Round Rob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Quantum of 3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witch time considered negligible in thi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ome First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000"/>
                <a:gridCol w="1274760"/>
                <a:gridCol w="2538360"/>
                <a:gridCol w="253872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4197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419720"/>
            <a:ext cx="19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638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6386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4197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est Job First (Nonpreemp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6040" y="1447920"/>
          <a:ext cx="7665840" cy="2117520"/>
        </p:xfrm>
        <a:graphic>
          <a:graphicData uri="http://schemas.openxmlformats.org/drawingml/2006/table">
            <a:tbl>
              <a:tblPr/>
              <a:tblGrid>
                <a:gridCol w="1314360"/>
                <a:gridCol w="1274760"/>
                <a:gridCol w="2538360"/>
                <a:gridCol w="25383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/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ms for 5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4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8ms for 2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523880" y="44197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176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638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91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920" y="5557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56386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5100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502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5329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329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53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44197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2:12:54Z</dcterms:created>
  <dc:creator>FRAPS</dc:creator>
  <dc:description/>
  <dc:language>en-US</dc:language>
  <cp:lastModifiedBy>FRAPS</cp:lastModifiedBy>
  <dcterms:modified xsi:type="dcterms:W3CDTF">2002-02-12T04:33:10Z</dcterms:modified>
  <cp:revision>39</cp:revision>
  <dc:subject/>
  <dc:title>Tutorial 4</dc:title>
</cp:coreProperties>
</file>