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8D53-D637-4F57-A7C9-ABD078409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is idea of interface vs implementation is very important in program design in gene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slide is gear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 emphasizes this difference by having “interfaces” (not necess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oof: Semaphore that you can Wait() and Signal() only for one at a time. Semaphore that you can Wait() and Signal() for any number is more flexible but is more complex. This also makes proofs more complex: what do you do if you ask for 3 but there are only 2 for now? More complex than Wait/Signal for one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 how this example takes advantage of the interface/implementation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vents use of intern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llows the implementation to change while keeping the sam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llows for control of how the objec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forced interface allows for proving properties about it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… stuff is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E1E-D4AF-4AFF-AD4B-A3727F82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4DD-1431-4D20-AE0E-C5DC00B1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A0B-68E4-42D1-A4AA-7A9978AE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9D0-1553-4F36-A78C-6DB5CEB5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53A-4210-48C9-A233-FDCB97F4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EEC-366B-4856-9650-FFFAF055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B63-3919-4F81-A191-FE68405E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9D5-E721-4776-B242-0D4857F1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535-39E3-4982-A61E-4454A28D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EDC-00DB-4624-878A-446D940E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794-53FB-4925-8C13-F9DED00B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13C-CBAB-4243-9C21-A7C15DF9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C537-6AE5-4E94-AF85-BA6E88C53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More Synchroniz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solu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33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ing System thr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keyPressed = ‘A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A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2971800"/>
            <a:ext cx="38098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r thr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ait for ‘A’ key to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ressed before continu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A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maphore keyA = new Semaphore(0); // Initially not 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thread will react upon key 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thread star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key has been pressed, the Wait() call will return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maphor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does not take timing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aph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: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aphores with its functions defin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() : Block until event occurs; calling thread is added to the event’s waiting que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() : Unblock all threads on event’s waiting queue; remove them from the que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Java cod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Test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971800"/>
            <a:ext cx="3733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ing System thr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keyPressed = ‘A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A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971800"/>
            <a:ext cx="38098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r thr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ait for ‘A’ key to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ressed before continu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A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vent keyA = new Semaphore(0); // Initially not 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762120"/>
            <a:ext cx="1447920" cy="1218960"/>
          </a:xfrm>
          <a:prstGeom prst="downArrowCallout">
            <a:avLst>
              <a:gd name="adj1" fmla="val 29698"/>
              <a:gd name="adj2" fmla="val 29696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dif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nitor is an Abstract Data Type – like 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importance of a monitor is that only one function can be accessed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roperty of ADTs for use with monitors is separation of interface and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/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public interface to the class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ing the implementation priv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use of intern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he implementation to change while keeping the sam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control of how the object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d interface allows for proving properties about its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nitor can be thought of as a class where each function is a critical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nitor thus would have a mutex as a private data member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unction would thus call mutex.Wait() before executing, and mutex.Signal() before ex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Jav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nitor can be implemented as we just described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lass where all of the methods are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nchron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, where Java does the work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on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SharedBalanc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ba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haredBalance(int am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balance = amt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redit(int amt) {balance += amt;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debit(int amt) {balance –= amt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ers – Writer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many readers and many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s want to read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s want to write to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aders are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riter can write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aders can read when a writer is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ultiple threads share resources, we need a way to synchronize access to thes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e coffee example with pourer and dr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Use semapho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Our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he reader or writer reads from the resource, it calls the its “start”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start” methods ensure that the “coast is clear”; that it is fine to continue to read from/write to the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finish” methods allow the next thread to read or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Mon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solve the problem with a monitor, so it will need to keep track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umReaders = 0: number of readers currently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umWriters = 0: number of writers currently writing / waiting to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busy = false: is a writer bus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aders and 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.startRea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read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.finishRea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.startWrit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write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.finishWrit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read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Read(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numWriters != 0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+numRead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Read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numReader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43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writ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Write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+numWrit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busy || numReaders &gt;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y =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Write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numWrit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y =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 Our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a reader/writer is executing it’s “start” in the monitor, no other processes are allowed i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o look further for our solu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read running in a moni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nters a condition that is not satisfi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an only be satisfied by another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xactly what we nee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 Variables are an extension of Events to the concept of mon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emporarily blocks current thre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ing over “ownership” of the monitor to another thread – to do some work that will make the condition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al thread regains “ownership” of monitor later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ining the Mon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on a call to signal() dep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semantic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are’s semantic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ing thread (S)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mediately interrup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nitor is given back to a blocked thread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S resumes (in the monitor) when B finishes using th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nother W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en’s sematics are not immedia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is “saved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cked thread will wake up only when the  signaling thread finishes with th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he blocked thread must always verify the condition again upon waking up, since some time has elapsed since the signal() wa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sults in less context switches, increasing syste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Use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 variables have thre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(): block on a variable, give up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(): wake up a thread blocked on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(): ask if are there any threads blocked on this variable - to be used as part of th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, they correspond to the usage, within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nchron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objects, of wait() and signal() – although there is no queu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urn to Readers – 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we know about condition variables, we can solve this problem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ow have the following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umReaders = 0 (same as bef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busy = false (same as bef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 Variables okToRd, okToW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will use Hoare’s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 to Semaph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phores are great, but they can be difficult to use when solving certai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ook at alternatives to semaph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These alternatives are mo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ven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ough semaphores can still be used to solve thes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0680" y="380520"/>
            <a:ext cx="86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reader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Read(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busy ||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ToWr.queu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ToRead.wait(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numRead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Read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numReader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numReaders == 0) okToWr.signa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91000" y="1752120"/>
            <a:ext cx="3967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writer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Write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numWri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numReaders != 0 || bus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ToWr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y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Write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y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okToWr.queue()) okToWr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okToRead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rummers (threads) each with his/her own drum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2 drumsticks: drumStick1 and drumStick2 (shared resour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drummers want to play, and to play, a drummer needs two drumst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solu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289584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mmer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Drum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Signal(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2971800"/>
            <a:ext cx="28195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mmer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Drum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Signal(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981080"/>
            <a:ext cx="6933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maphore drumStick1 = new Semaphore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maphore drumStick2 = new Semaphore(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640" y="5867280"/>
            <a:ext cx="33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86200"/>
            <a:ext cx="838080" cy="685800"/>
          </a:xfrm>
          <a:prstGeom prst="leftRightArrow">
            <a:avLst>
              <a:gd name="adj1" fmla="val 50000"/>
              <a:gd name="adj2" fmla="val 24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what i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743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mmer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Drum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Signal(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266724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mmer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Drum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2.Signal(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952880"/>
            <a:ext cx="7010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9528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deadlo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can’t rely on programmers to obtain semaphores in the sam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3048120"/>
            <a:ext cx="838080" cy="685800"/>
          </a:xfrm>
          <a:prstGeom prst="leftRightArrow">
            <a:avLst>
              <a:gd name="adj1" fmla="val 50000"/>
              <a:gd name="adj2" fmla="val 24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74320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038120" y="274320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: AND Synchro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itMulti(S1, S2, …,S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Blocks calling thread until all semaphores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Multi(S1, S2, …, S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Releases all sem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Java cod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ltiSemTest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mmers… one more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327672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mmer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s.WaitMulti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Drum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s.SignalMulti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6560" y="3580920"/>
            <a:ext cx="335268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mmer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s.WaitMulti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Drum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s.SignalMulti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0280" y="1981080"/>
            <a:ext cx="700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maphore drumStick1 = new Semaphore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maphore drumStick2 = new Semaphore(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ltiSemaphore drumStick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umSticks = new MultiSemaphore(drumStick1, drumStick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981080"/>
            <a:ext cx="6934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840" y="5867280"/>
            <a:ext cx="30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4343400"/>
            <a:ext cx="762120" cy="685800"/>
          </a:xfrm>
          <a:prstGeom prst="leftRightArrow">
            <a:avLst>
              <a:gd name="adj1" fmla="val 50000"/>
              <a:gd name="adj2" fmla="val 221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keyboard state object : Know when keys are 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: ask keyboard state object when a key has been 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may start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18:20:21Z</dcterms:created>
  <dc:creator>Home</dc:creator>
  <dc:description/>
  <dc:language>en-US</dc:language>
  <cp:lastModifiedBy>Home</cp:lastModifiedBy>
  <dcterms:modified xsi:type="dcterms:W3CDTF">2002-04-10T03:52:32Z</dcterms:modified>
  <cp:revision>29</cp:revision>
  <dc:subject/>
  <dc:title>Tutorial 4</dc:title>
</cp:coreProperties>
</file>