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3B78-EAD1-4A49-BC3D-8EA1705C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Paul’s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that this will work as we want it t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84B0-7760-4D6B-B28A-501A38B6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uide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ct coding standa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 on a specific way to ensure semaphores are used in a fixed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ents heavily -&gt; like for every semaphore call, say where the matching call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es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ebugging, insert blocking calls at crucial junctures to see if deadlock occurs (like the yeild() calls in the assign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: have the program run over and over, checking to see if it ever ha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itor thus would have a mutex as a private data member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unction would thus call mutex.Wait() before executing, and mutex.Signal() before ex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ing ownership to another th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grammer uses this to let another thread fix that thing you wa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FDD-8B7B-4234-99A3-2CF148A0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A66-346A-4576-B4D3-2C0B111F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89C-C075-4F27-941E-00BDFCD6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508-40AC-42C1-8E98-039B5AC9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A3E-E84C-4EB8-B4B4-8C067194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C33-0EC7-43ED-981B-E0E0DD8B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E2E-FEBB-49C8-A20D-546374A2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003-9296-49E0-8B54-1EBB0CCF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E40-9D49-4081-BB58-10F6BC30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1FA-1964-4F7B-B8B8-958DC9F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EA7-444A-4EAB-AEF3-980FA6DC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ACC-22F6-4542-B56B-009633A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72A7-D608-4EE1-8D72-1098A2CE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Review and Deadlo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me the money alread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new member variable condV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Balance::credit(int am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balance += amt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Var.signal(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Balance::debit(int am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(balance &lt; amt) {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Var.wait(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-= am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lock with Semaph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06760"/>
            <a:ext cx="40338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2640" y="2606760"/>
            <a:ext cx="40338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828800"/>
            <a:ext cx="7772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alpha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beta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809880"/>
            <a:ext cx="205740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3809520"/>
            <a:ext cx="2133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5486400"/>
            <a:ext cx="19051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19520" y="5486040"/>
            <a:ext cx="18288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606760"/>
            <a:ext cx="40338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2640" y="2606760"/>
            <a:ext cx="40338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828800"/>
            <a:ext cx="7772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alpha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beta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191120"/>
            <a:ext cx="2133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54864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579132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phores are powerfu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w-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chronization too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can be difficult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 strict cod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gher-lev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s if they’re available (i.e. AND-synchroniz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 your code for dead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lock with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688840"/>
            <a:ext cx="4033800" cy="343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it for var to b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Use 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Something(v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e’re done with 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2640" y="2688840"/>
            <a:ext cx="4033800" cy="343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et 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= InitV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Let other thread us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it until it’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772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var; // Global shared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t alpha = new Even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t beta = new Even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uple of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e a total ordering system: Use a semaphore to ensure Thread 1 starts before Threa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maph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what happens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nts (recall: semaphor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vent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vents, deadlock often occurs due to timing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ensure that threads start in order if timing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using semaphores instead of events – use events only when the future is important, not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an think of a monitor as another Abstract Data Type – like a structure or class – with functions and priv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attribute of a monitor is that it can  be accessed by only one threa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3657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Monitor.Fo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are simpl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itor object can be thought of as an object where each access to it is protected by a mut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19360" y="327636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ous call w/o Moni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.wa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bject.Fo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.signa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haredBalanc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haredBalance(int am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balance 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redit(int amt) {balance +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debit(int amt) {balance -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me the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we only allow someone to complete a debit transaction when there is enough money to t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Balance::debit(int am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(balance &lt; amt) { }  // wait for th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-= am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n’t work if a debit() call occurs when there is not enough mon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() waits for someone to credit th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() can’t run because debit is already executing in the monit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DEADLO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use Condition Variab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read running in a moni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nters a condition that is not satisfi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an only be satisfied by another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s has 3 ope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() - block on a variable, give up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() - wake up a thread blocked o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() - asks “are there any threads blocked on you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it on a c.v. when you want to get another thread to do something for you. This is what happens when you wait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emporarily blocks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 over “ownership” of the monitor you are running in to another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you back the “ownership” of the monitor later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ining the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schemes for deciding when the blocked thread will regain the moni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ly, as soon as another thread signals the condition variabl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on, when the thread (that signaled) finishes executing inside th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22:00:10Z</dcterms:created>
  <dc:creator>Paul Di Marco</dc:creator>
  <dc:description/>
  <dc:language>en-US</dc:language>
  <cp:lastModifiedBy>Paul Di Marco</cp:lastModifiedBy>
  <dcterms:modified xsi:type="dcterms:W3CDTF">2002-02-27T06:23:29Z</dcterms:modified>
  <cp:revision>47</cp:revision>
  <dc:subject/>
  <dc:title>Review of Monitors and Deadlock</dc:title>
</cp:coreProperties>
</file>