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31A3-35B1-4717-B194-02471686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and contrast of automatic and dynamic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17C-7133-4E29-BF44-BD1D4B2D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BB7-82F0-4E92-A23A-90A21033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14A-7B69-45B9-BD13-B238DD7B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354-029F-44D2-BDB0-92308A50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CE6-1B4A-4D59-8236-356F76C2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852-8ED6-4A4A-A6E7-B27AEA71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1AE-E31F-477C-84BF-8CF19BAE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E33-27B8-416A-88EE-D73525FF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31C-6AC7-4E36-B9D5-A334E6B9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1C5-6158-4E0E-8CD4-FF1F27DE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AD0-D940-4114-A946-CDCCCB3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61C-93E2-4133-B359-B28E8F61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1367-4090-4059-9229-ACA00ED45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Manag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Mem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.k.a. 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 data and programs used by a process that is exec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ype of memory that a CPU deals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Mem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.e. hard di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volatile memory used to store data when a process is not exec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mory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anage the use of primary and secondary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ible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ng primary memory to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processes between primary and secondary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ing memory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s of memory tha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 within a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c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for local/automatic variables and for passing parameters to function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for dynamic memory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81952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195720"/>
            <a:ext cx="3048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gment (global and static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8320" y="385128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p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0640" y="501012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38164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 Variabl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640" y="4227480"/>
            <a:ext cx="304812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4221000"/>
            <a:ext cx="6480" cy="573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666880" y="4384800"/>
            <a:ext cx="5040" cy="6411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parti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-parti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-Parti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-Parti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02:36:06Z</dcterms:created>
  <dc:creator>Home</dc:creator>
  <dc:description/>
  <dc:language>en-US</dc:language>
  <cp:lastModifiedBy>Home</cp:lastModifiedBy>
  <dcterms:modified xsi:type="dcterms:W3CDTF">2002-03-11T05:12:44Z</dcterms:modified>
  <cp:revision>6</cp:revision>
  <dc:subject/>
  <dc:title>Tutorial 7</dc:title>
</cp:coreProperties>
</file>