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89B2-D3DA-4413-B629-5890E33BC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ge that is removed could be the most often referenced p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d page numbers 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ties between candidate victim pages by choosing one random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that the new 4 pages at the end are all chosen to be the victim pa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are new and are not frequently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C41-E84A-4CE4-9F4D-EB3446DB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177-19E1-4C9E-B0C5-22B522DF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345-3B20-49F5-BBCA-90B31BCD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397-C3A4-43C8-9943-7EC6A8A6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36E5-D247-417F-9539-84508571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D8FB-8C74-4E4D-979F-83D3A78D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913-D4D3-4281-A307-7C67F9B8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B2D-9683-4133-B150-1D8D1363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514-6B7A-4D29-AC83-6E040A46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868-C029-47DE-BB2F-7254C4A5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B39-5016-4700-821A-1B82D139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784-B584-4884-8A86-D28ADB15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3377-6E4A-4AF6-8629-C4ADD8C5B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Memory: P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 Di Mar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P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page reference stream is not know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head of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e can’t “pre-fetch”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which page to loa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uring run-ti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e load them on “dema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concentrate on replacement policies (#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Paging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, Optim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RU, LFU, FI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Re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page at random to be the victim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to implement, but is the worst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knowledge is taken into accou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ge thus has same probability of being the vic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algorithm; however requires knowledge of the future page references (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result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ast possible page fa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the page that will be referenced the latest from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Algorithm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’ reference stream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1 2 3 0 1 2 3 0 1 2 3 4 5 6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is allocated 3 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45160" y="4695840"/>
            <a:ext cx="354960" cy="1250280"/>
            <a:chOff x="3845160" y="4695840"/>
            <a:chExt cx="354960" cy="1250280"/>
          </a:xfrm>
        </p:grpSpPr>
        <p:sp>
          <p:nvSpPr>
            <p:cNvPr id="93" name=""/>
            <p:cNvSpPr/>
            <p:nvPr/>
          </p:nvSpPr>
          <p:spPr>
            <a:xfrm>
              <a:off x="385020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4516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502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121640" y="4695840"/>
            <a:ext cx="356040" cy="1250280"/>
            <a:chOff x="4121640" y="4695840"/>
            <a:chExt cx="356040" cy="1250280"/>
          </a:xfrm>
        </p:grpSpPr>
        <p:sp>
          <p:nvSpPr>
            <p:cNvPr id="97" name=""/>
            <p:cNvSpPr/>
            <p:nvPr/>
          </p:nvSpPr>
          <p:spPr>
            <a:xfrm>
              <a:off x="412164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308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2776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654800" y="4695840"/>
            <a:ext cx="356400" cy="1250280"/>
            <a:chOff x="4654800" y="4695840"/>
            <a:chExt cx="356400" cy="1250280"/>
          </a:xfrm>
        </p:grpSpPr>
        <p:sp>
          <p:nvSpPr>
            <p:cNvPr id="101" name=""/>
            <p:cNvSpPr/>
            <p:nvPr/>
          </p:nvSpPr>
          <p:spPr>
            <a:xfrm>
              <a:off x="465480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5660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6128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916880" y="4695840"/>
            <a:ext cx="365760" cy="1250280"/>
            <a:chOff x="4916880" y="4695840"/>
            <a:chExt cx="365760" cy="1250280"/>
          </a:xfrm>
        </p:grpSpPr>
        <p:sp>
          <p:nvSpPr>
            <p:cNvPr id="105" name=""/>
            <p:cNvSpPr/>
            <p:nvPr/>
          </p:nvSpPr>
          <p:spPr>
            <a:xfrm>
              <a:off x="491688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2804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3272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450400" y="4695840"/>
            <a:ext cx="365760" cy="1250280"/>
            <a:chOff x="5450400" y="4695840"/>
            <a:chExt cx="365760" cy="1250280"/>
          </a:xfrm>
        </p:grpSpPr>
        <p:sp>
          <p:nvSpPr>
            <p:cNvPr id="109" name=""/>
            <p:cNvSpPr/>
            <p:nvPr/>
          </p:nvSpPr>
          <p:spPr>
            <a:xfrm>
              <a:off x="545040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6120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6624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721840" y="4695840"/>
            <a:ext cx="356040" cy="1250280"/>
            <a:chOff x="5721840" y="4695840"/>
            <a:chExt cx="356040" cy="1250280"/>
          </a:xfrm>
        </p:grpSpPr>
        <p:sp>
          <p:nvSpPr>
            <p:cNvPr id="113" name=""/>
            <p:cNvSpPr/>
            <p:nvPr/>
          </p:nvSpPr>
          <p:spPr>
            <a:xfrm>
              <a:off x="572184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328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2796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14400" y="4254480"/>
            <a:ext cx="6235200" cy="1691640"/>
            <a:chOff x="914400" y="4254480"/>
            <a:chExt cx="6235200" cy="1691640"/>
          </a:xfrm>
        </p:grpSpPr>
        <p:grpSp>
          <p:nvGrpSpPr>
            <p:cNvPr id="117" name=""/>
            <p:cNvGrpSpPr/>
            <p:nvPr/>
          </p:nvGrpSpPr>
          <p:grpSpPr>
            <a:xfrm>
              <a:off x="914400" y="4254480"/>
              <a:ext cx="6235200" cy="1691640"/>
              <a:chOff x="914400" y="4254480"/>
              <a:chExt cx="6235200" cy="1691640"/>
            </a:xfrm>
          </p:grpSpPr>
          <p:sp>
            <p:nvSpPr>
              <p:cNvPr id="118" name=""/>
              <p:cNvSpPr/>
              <p:nvPr/>
            </p:nvSpPr>
            <p:spPr>
              <a:xfrm>
                <a:off x="27608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326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943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6580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437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151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772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86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818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439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153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9932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2647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264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996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9168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914400" y="4267080"/>
                <a:ext cx="6175440" cy="1679040"/>
                <a:chOff x="914400" y="4267080"/>
                <a:chExt cx="6175440" cy="1679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447920" y="469260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447920" y="512136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447920" y="551808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450800" y="5899320"/>
                  <a:ext cx="563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447920" y="426708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914400" y="47242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914400" y="510552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54864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300840" y="4695840"/>
              <a:ext cx="365760" cy="1250280"/>
              <a:chOff x="3300840" y="4695840"/>
              <a:chExt cx="365760" cy="1250280"/>
            </a:xfrm>
          </p:grpSpPr>
          <p:sp>
            <p:nvSpPr>
              <p:cNvPr id="144" name=""/>
              <p:cNvSpPr/>
              <p:nvPr/>
            </p:nvSpPr>
            <p:spPr>
              <a:xfrm>
                <a:off x="330084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31200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3316680" y="5486400"/>
                <a:ext cx="349920" cy="459720"/>
                <a:chOff x="3316680" y="5486400"/>
                <a:chExt cx="349920" cy="4597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316680" y="54864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352680" y="5486400"/>
                  <a:ext cx="30492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9" name=""/>
            <p:cNvGrpSpPr/>
            <p:nvPr/>
          </p:nvGrpSpPr>
          <p:grpSpPr>
            <a:xfrm>
              <a:off x="3038760" y="4695840"/>
              <a:ext cx="351720" cy="866880"/>
              <a:chOff x="3038760" y="4695840"/>
              <a:chExt cx="351720" cy="866880"/>
            </a:xfrm>
          </p:grpSpPr>
          <p:sp>
            <p:nvSpPr>
              <p:cNvPr id="150" name=""/>
              <p:cNvSpPr/>
              <p:nvPr/>
            </p:nvSpPr>
            <p:spPr>
              <a:xfrm>
                <a:off x="303876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3040560" y="5092560"/>
                <a:ext cx="349920" cy="470160"/>
                <a:chOff x="3040560" y="5092560"/>
                <a:chExt cx="349920" cy="4701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040560" y="50925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048120" y="5105520"/>
                  <a:ext cx="30456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" name=""/>
            <p:cNvGrpSpPr/>
            <p:nvPr/>
          </p:nvGrpSpPr>
          <p:grpSpPr>
            <a:xfrm>
              <a:off x="2767320" y="4695840"/>
              <a:ext cx="349920" cy="485640"/>
              <a:chOff x="2767320" y="4695840"/>
              <a:chExt cx="349920" cy="485640"/>
            </a:xfrm>
          </p:grpSpPr>
          <p:sp>
            <p:nvSpPr>
              <p:cNvPr id="155" name=""/>
              <p:cNvSpPr/>
              <p:nvPr/>
            </p:nvSpPr>
            <p:spPr>
              <a:xfrm>
                <a:off x="276732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90720" y="472428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572280" y="4695840"/>
            <a:ext cx="356040" cy="1250280"/>
            <a:chOff x="3572280" y="4695840"/>
            <a:chExt cx="356040" cy="1250280"/>
          </a:xfrm>
        </p:grpSpPr>
        <p:sp>
          <p:nvSpPr>
            <p:cNvPr id="158" name=""/>
            <p:cNvSpPr/>
            <p:nvPr/>
          </p:nvSpPr>
          <p:spPr>
            <a:xfrm>
              <a:off x="357228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737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578400" y="5486400"/>
              <a:ext cx="349920" cy="459720"/>
              <a:chOff x="3578400" y="5486400"/>
              <a:chExt cx="349920" cy="459720"/>
            </a:xfrm>
          </p:grpSpPr>
          <p:sp>
            <p:nvSpPr>
              <p:cNvPr id="161" name=""/>
              <p:cNvSpPr/>
              <p:nvPr/>
            </p:nvSpPr>
            <p:spPr>
              <a:xfrm>
                <a:off x="357840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97120" y="548640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4383360" y="4695840"/>
            <a:ext cx="365760" cy="1250280"/>
            <a:chOff x="4383360" y="4695840"/>
            <a:chExt cx="365760" cy="1250280"/>
          </a:xfrm>
        </p:grpSpPr>
        <p:sp>
          <p:nvSpPr>
            <p:cNvPr id="164" name=""/>
            <p:cNvSpPr/>
            <p:nvPr/>
          </p:nvSpPr>
          <p:spPr>
            <a:xfrm>
              <a:off x="438336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992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394520" y="5092560"/>
              <a:ext cx="349920" cy="470160"/>
              <a:chOff x="4394520" y="5092560"/>
              <a:chExt cx="349920" cy="470160"/>
            </a:xfrm>
          </p:grpSpPr>
          <p:sp>
            <p:nvSpPr>
              <p:cNvPr id="167" name=""/>
              <p:cNvSpPr/>
              <p:nvPr/>
            </p:nvSpPr>
            <p:spPr>
              <a:xfrm>
                <a:off x="439452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419720" y="510552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5188320" y="4695840"/>
            <a:ext cx="356400" cy="1250280"/>
            <a:chOff x="5188320" y="4695840"/>
            <a:chExt cx="356400" cy="1250280"/>
          </a:xfrm>
        </p:grpSpPr>
        <p:sp>
          <p:nvSpPr>
            <p:cNvPr id="170" name=""/>
            <p:cNvSpPr/>
            <p:nvPr/>
          </p:nvSpPr>
          <p:spPr>
            <a:xfrm>
              <a:off x="518976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948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188320" y="4695840"/>
              <a:ext cx="349920" cy="469800"/>
              <a:chOff x="5188320" y="4695840"/>
              <a:chExt cx="349920" cy="469800"/>
            </a:xfrm>
          </p:grpSpPr>
          <p:sp>
            <p:nvSpPr>
              <p:cNvPr id="173" name=""/>
              <p:cNvSpPr/>
              <p:nvPr/>
            </p:nvSpPr>
            <p:spPr>
              <a:xfrm>
                <a:off x="518832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1352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"/>
          <p:cNvGrpSpPr/>
          <p:nvPr/>
        </p:nvGrpSpPr>
        <p:grpSpPr>
          <a:xfrm>
            <a:off x="5994720" y="4695840"/>
            <a:ext cx="354600" cy="1250280"/>
            <a:chOff x="5994720" y="4695840"/>
            <a:chExt cx="354600" cy="1250280"/>
          </a:xfrm>
        </p:grpSpPr>
        <p:sp>
          <p:nvSpPr>
            <p:cNvPr id="176" name=""/>
            <p:cNvSpPr/>
            <p:nvPr/>
          </p:nvSpPr>
          <p:spPr>
            <a:xfrm>
              <a:off x="59947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994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999400" y="4695840"/>
              <a:ext cx="349920" cy="469800"/>
              <a:chOff x="5999400" y="4695840"/>
              <a:chExt cx="349920" cy="469800"/>
            </a:xfrm>
          </p:grpSpPr>
          <p:sp>
            <p:nvSpPr>
              <p:cNvPr id="179" name=""/>
              <p:cNvSpPr/>
              <p:nvPr/>
            </p:nvSpPr>
            <p:spPr>
              <a:xfrm>
                <a:off x="59994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3576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6270840" y="4695840"/>
            <a:ext cx="356400" cy="1250280"/>
            <a:chOff x="6270840" y="4695840"/>
            <a:chExt cx="356400" cy="1250280"/>
          </a:xfrm>
        </p:grpSpPr>
        <p:sp>
          <p:nvSpPr>
            <p:cNvPr id="182" name=""/>
            <p:cNvSpPr/>
            <p:nvPr/>
          </p:nvSpPr>
          <p:spPr>
            <a:xfrm>
              <a:off x="627084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7732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6272640" y="5092560"/>
              <a:ext cx="349920" cy="470160"/>
              <a:chOff x="6272640" y="5092560"/>
              <a:chExt cx="349920" cy="470160"/>
            </a:xfrm>
          </p:grpSpPr>
          <p:sp>
            <p:nvSpPr>
              <p:cNvPr id="185" name=""/>
              <p:cNvSpPr/>
              <p:nvPr/>
            </p:nvSpPr>
            <p:spPr>
              <a:xfrm>
                <a:off x="627264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308640" y="510552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6532920" y="4695840"/>
            <a:ext cx="365760" cy="1250280"/>
            <a:chOff x="6532920" y="4695840"/>
            <a:chExt cx="365760" cy="1250280"/>
          </a:xfrm>
        </p:grpSpPr>
        <p:sp>
          <p:nvSpPr>
            <p:cNvPr id="188" name=""/>
            <p:cNvSpPr/>
            <p:nvPr/>
          </p:nvSpPr>
          <p:spPr>
            <a:xfrm>
              <a:off x="653292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4408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6548760" y="5486400"/>
              <a:ext cx="349920" cy="459720"/>
              <a:chOff x="6548760" y="5486400"/>
              <a:chExt cx="349920" cy="459720"/>
            </a:xfrm>
          </p:grpSpPr>
          <p:sp>
            <p:nvSpPr>
              <p:cNvPr id="191" name=""/>
              <p:cNvSpPr/>
              <p:nvPr/>
            </p:nvSpPr>
            <p:spPr>
              <a:xfrm>
                <a:off x="65487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68920" y="548640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6805800" y="4695840"/>
            <a:ext cx="354960" cy="1250280"/>
            <a:chOff x="6805800" y="4695840"/>
            <a:chExt cx="354960" cy="1250280"/>
          </a:xfrm>
        </p:grpSpPr>
        <p:sp>
          <p:nvSpPr>
            <p:cNvPr id="194" name=""/>
            <p:cNvSpPr/>
            <p:nvPr/>
          </p:nvSpPr>
          <p:spPr>
            <a:xfrm>
              <a:off x="680580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1084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6805800" y="4695840"/>
              <a:ext cx="349920" cy="469800"/>
              <a:chOff x="6805800" y="4695840"/>
              <a:chExt cx="349920" cy="469800"/>
            </a:xfrm>
          </p:grpSpPr>
          <p:sp>
            <p:nvSpPr>
              <p:cNvPr id="197" name=""/>
              <p:cNvSpPr/>
              <p:nvPr/>
            </p:nvSpPr>
            <p:spPr>
              <a:xfrm>
                <a:off x="68058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82632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Recently Used (LR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the page which was last referenced the longest time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14400" y="4254480"/>
            <a:ext cx="6235200" cy="1691640"/>
            <a:chOff x="914400" y="4254480"/>
            <a:chExt cx="6235200" cy="1691640"/>
          </a:xfrm>
        </p:grpSpPr>
        <p:grpSp>
          <p:nvGrpSpPr>
            <p:cNvPr id="202" name=""/>
            <p:cNvGrpSpPr/>
            <p:nvPr/>
          </p:nvGrpSpPr>
          <p:grpSpPr>
            <a:xfrm>
              <a:off x="914400" y="4254480"/>
              <a:ext cx="6235200" cy="1691640"/>
              <a:chOff x="914400" y="4254480"/>
              <a:chExt cx="6235200" cy="1691640"/>
            </a:xfrm>
          </p:grpSpPr>
          <p:sp>
            <p:nvSpPr>
              <p:cNvPr id="203" name=""/>
              <p:cNvSpPr/>
              <p:nvPr/>
            </p:nvSpPr>
            <p:spPr>
              <a:xfrm>
                <a:off x="27608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0326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943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6580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437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151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772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486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818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439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153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932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2647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5264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7996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9168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914400" y="4267080"/>
                <a:ext cx="6175440" cy="1679040"/>
                <a:chOff x="914400" y="4267080"/>
                <a:chExt cx="6175440" cy="16790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447920" y="469260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447920" y="512136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447920" y="551808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450800" y="5899320"/>
                  <a:ext cx="563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447920" y="426708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914400" y="47242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914400" y="510552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914400" y="54864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3278520" y="4691160"/>
              <a:ext cx="365760" cy="1250280"/>
              <a:chOff x="3278520" y="4691160"/>
              <a:chExt cx="365760" cy="1250280"/>
            </a:xfrm>
          </p:grpSpPr>
          <p:sp>
            <p:nvSpPr>
              <p:cNvPr id="229" name=""/>
              <p:cNvSpPr/>
              <p:nvPr/>
            </p:nvSpPr>
            <p:spPr>
              <a:xfrm>
                <a:off x="3278520" y="4691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289320" y="5087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3294360" y="5481720"/>
                <a:ext cx="349920" cy="459720"/>
                <a:chOff x="3294360" y="5481720"/>
                <a:chExt cx="349920" cy="4597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294360" y="54817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330000" y="5481720"/>
                  <a:ext cx="30456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3038760" y="4695840"/>
              <a:ext cx="351720" cy="866880"/>
              <a:chOff x="3038760" y="4695840"/>
              <a:chExt cx="351720" cy="866880"/>
            </a:xfrm>
          </p:grpSpPr>
          <p:sp>
            <p:nvSpPr>
              <p:cNvPr id="235" name=""/>
              <p:cNvSpPr/>
              <p:nvPr/>
            </p:nvSpPr>
            <p:spPr>
              <a:xfrm>
                <a:off x="303876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3040560" y="5092560"/>
                <a:ext cx="349920" cy="470160"/>
                <a:chOff x="3040560" y="5092560"/>
                <a:chExt cx="349920" cy="4701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040560" y="50925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048120" y="5105520"/>
                  <a:ext cx="30456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"/>
            <p:cNvGrpSpPr/>
            <p:nvPr/>
          </p:nvGrpSpPr>
          <p:grpSpPr>
            <a:xfrm>
              <a:off x="2767320" y="4695840"/>
              <a:ext cx="349920" cy="485640"/>
              <a:chOff x="2767320" y="4695840"/>
              <a:chExt cx="349920" cy="485640"/>
            </a:xfrm>
          </p:grpSpPr>
          <p:sp>
            <p:nvSpPr>
              <p:cNvPr id="240" name=""/>
              <p:cNvSpPr/>
              <p:nvPr/>
            </p:nvSpPr>
            <p:spPr>
              <a:xfrm>
                <a:off x="276732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790720" y="472428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2" name=""/>
          <p:cNvGrpSpPr/>
          <p:nvPr/>
        </p:nvGrpSpPr>
        <p:grpSpPr>
          <a:xfrm>
            <a:off x="3572280" y="4695840"/>
            <a:ext cx="356040" cy="1250280"/>
            <a:chOff x="3572280" y="4695840"/>
            <a:chExt cx="356040" cy="1250280"/>
          </a:xfrm>
        </p:grpSpPr>
        <p:sp>
          <p:nvSpPr>
            <p:cNvPr id="243" name=""/>
            <p:cNvSpPr/>
            <p:nvPr/>
          </p:nvSpPr>
          <p:spPr>
            <a:xfrm>
              <a:off x="35737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7228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784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97120" y="472428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383360" y="4695840"/>
            <a:ext cx="365760" cy="1250280"/>
            <a:chOff x="4383360" y="4695840"/>
            <a:chExt cx="365760" cy="1250280"/>
          </a:xfrm>
        </p:grpSpPr>
        <p:sp>
          <p:nvSpPr>
            <p:cNvPr id="248" name=""/>
            <p:cNvSpPr/>
            <p:nvPr/>
          </p:nvSpPr>
          <p:spPr>
            <a:xfrm>
              <a:off x="438336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992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945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05320" y="472428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188320" y="4695840"/>
            <a:ext cx="356400" cy="1250280"/>
            <a:chOff x="5188320" y="4695840"/>
            <a:chExt cx="356400" cy="1250280"/>
          </a:xfrm>
        </p:grpSpPr>
        <p:sp>
          <p:nvSpPr>
            <p:cNvPr id="253" name=""/>
            <p:cNvSpPr/>
            <p:nvPr/>
          </p:nvSpPr>
          <p:spPr>
            <a:xfrm>
              <a:off x="518976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948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5188320" y="4695840"/>
              <a:ext cx="349920" cy="469800"/>
              <a:chOff x="5188320" y="4695840"/>
              <a:chExt cx="349920" cy="469800"/>
            </a:xfrm>
          </p:grpSpPr>
          <p:sp>
            <p:nvSpPr>
              <p:cNvPr id="256" name=""/>
              <p:cNvSpPr/>
              <p:nvPr/>
            </p:nvSpPr>
            <p:spPr>
              <a:xfrm>
                <a:off x="518832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21352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5994720" y="4695840"/>
            <a:ext cx="354600" cy="1250280"/>
            <a:chOff x="5994720" y="4695840"/>
            <a:chExt cx="354600" cy="1250280"/>
          </a:xfrm>
        </p:grpSpPr>
        <p:sp>
          <p:nvSpPr>
            <p:cNvPr id="259" name=""/>
            <p:cNvSpPr/>
            <p:nvPr/>
          </p:nvSpPr>
          <p:spPr>
            <a:xfrm>
              <a:off x="59947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994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999400" y="4695840"/>
              <a:ext cx="349920" cy="469800"/>
              <a:chOff x="5999400" y="4695840"/>
              <a:chExt cx="349920" cy="469800"/>
            </a:xfrm>
          </p:grpSpPr>
          <p:sp>
            <p:nvSpPr>
              <p:cNvPr id="262" name=""/>
              <p:cNvSpPr/>
              <p:nvPr/>
            </p:nvSpPr>
            <p:spPr>
              <a:xfrm>
                <a:off x="59994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03576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6270840" y="4695840"/>
            <a:ext cx="356400" cy="1250280"/>
            <a:chOff x="6270840" y="4695840"/>
            <a:chExt cx="356400" cy="1250280"/>
          </a:xfrm>
        </p:grpSpPr>
        <p:sp>
          <p:nvSpPr>
            <p:cNvPr id="265" name=""/>
            <p:cNvSpPr/>
            <p:nvPr/>
          </p:nvSpPr>
          <p:spPr>
            <a:xfrm>
              <a:off x="627084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7732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6272640" y="5092560"/>
              <a:ext cx="349920" cy="470160"/>
              <a:chOff x="6272640" y="5092560"/>
              <a:chExt cx="349920" cy="470160"/>
            </a:xfrm>
          </p:grpSpPr>
          <p:sp>
            <p:nvSpPr>
              <p:cNvPr id="268" name=""/>
              <p:cNvSpPr/>
              <p:nvPr/>
            </p:nvSpPr>
            <p:spPr>
              <a:xfrm>
                <a:off x="627264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308640" y="510552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6532920" y="4695840"/>
            <a:ext cx="365760" cy="1250280"/>
            <a:chOff x="6532920" y="4695840"/>
            <a:chExt cx="365760" cy="1250280"/>
          </a:xfrm>
        </p:grpSpPr>
        <p:sp>
          <p:nvSpPr>
            <p:cNvPr id="271" name=""/>
            <p:cNvSpPr/>
            <p:nvPr/>
          </p:nvSpPr>
          <p:spPr>
            <a:xfrm>
              <a:off x="653292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4408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548760" y="5486400"/>
              <a:ext cx="349920" cy="459720"/>
              <a:chOff x="6548760" y="5486400"/>
              <a:chExt cx="349920" cy="459720"/>
            </a:xfrm>
          </p:grpSpPr>
          <p:sp>
            <p:nvSpPr>
              <p:cNvPr id="274" name=""/>
              <p:cNvSpPr/>
              <p:nvPr/>
            </p:nvSpPr>
            <p:spPr>
              <a:xfrm>
                <a:off x="65487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568920" y="548640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6805800" y="4695840"/>
            <a:ext cx="354960" cy="1250280"/>
            <a:chOff x="6805800" y="4695840"/>
            <a:chExt cx="354960" cy="1250280"/>
          </a:xfrm>
        </p:grpSpPr>
        <p:sp>
          <p:nvSpPr>
            <p:cNvPr id="277" name=""/>
            <p:cNvSpPr/>
            <p:nvPr/>
          </p:nvSpPr>
          <p:spPr>
            <a:xfrm>
              <a:off x="680580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1084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6805800" y="4695840"/>
              <a:ext cx="349920" cy="469800"/>
              <a:chOff x="6805800" y="4695840"/>
              <a:chExt cx="349920" cy="469800"/>
            </a:xfrm>
          </p:grpSpPr>
          <p:sp>
            <p:nvSpPr>
              <p:cNvPr id="280" name=""/>
              <p:cNvSpPr/>
              <p:nvPr/>
            </p:nvSpPr>
            <p:spPr>
              <a:xfrm>
                <a:off x="68058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82632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3845160" y="4695840"/>
            <a:ext cx="354960" cy="1250280"/>
            <a:chOff x="3845160" y="4695840"/>
            <a:chExt cx="354960" cy="1250280"/>
          </a:xfrm>
        </p:grpSpPr>
        <p:grpSp>
          <p:nvGrpSpPr>
            <p:cNvPr id="283" name=""/>
            <p:cNvGrpSpPr/>
            <p:nvPr/>
          </p:nvGrpSpPr>
          <p:grpSpPr>
            <a:xfrm>
              <a:off x="3845160" y="4695840"/>
              <a:ext cx="354960" cy="1250280"/>
              <a:chOff x="3845160" y="4695840"/>
              <a:chExt cx="354960" cy="1250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8502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4516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5020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3867120" y="510552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121640" y="4695840"/>
            <a:ext cx="356040" cy="1250280"/>
            <a:chOff x="4121640" y="4695840"/>
            <a:chExt cx="356040" cy="1250280"/>
          </a:xfrm>
        </p:grpSpPr>
        <p:grpSp>
          <p:nvGrpSpPr>
            <p:cNvPr id="289" name=""/>
            <p:cNvGrpSpPr/>
            <p:nvPr/>
          </p:nvGrpSpPr>
          <p:grpSpPr>
            <a:xfrm>
              <a:off x="4121640" y="4695840"/>
              <a:ext cx="356040" cy="1250280"/>
              <a:chOff x="4121640" y="4695840"/>
              <a:chExt cx="356040" cy="1250280"/>
            </a:xfrm>
          </p:grpSpPr>
          <p:sp>
            <p:nvSpPr>
              <p:cNvPr id="290" name=""/>
              <p:cNvSpPr/>
              <p:nvPr/>
            </p:nvSpPr>
            <p:spPr>
              <a:xfrm>
                <a:off x="412164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12308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1277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4162320" y="548640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654800" y="4695840"/>
            <a:ext cx="356400" cy="1250280"/>
            <a:chOff x="4654800" y="4695840"/>
            <a:chExt cx="356400" cy="1250280"/>
          </a:xfrm>
        </p:grpSpPr>
        <p:grpSp>
          <p:nvGrpSpPr>
            <p:cNvPr id="295" name=""/>
            <p:cNvGrpSpPr/>
            <p:nvPr/>
          </p:nvGrpSpPr>
          <p:grpSpPr>
            <a:xfrm>
              <a:off x="4654800" y="4695840"/>
              <a:ext cx="356400" cy="1250280"/>
              <a:chOff x="4654800" y="4695840"/>
              <a:chExt cx="356400" cy="1250280"/>
            </a:xfrm>
          </p:grpSpPr>
          <p:sp>
            <p:nvSpPr>
              <p:cNvPr id="296" name=""/>
              <p:cNvSpPr/>
              <p:nvPr/>
            </p:nvSpPr>
            <p:spPr>
              <a:xfrm>
                <a:off x="46548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5660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66128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676760" y="510552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916880" y="4695840"/>
            <a:ext cx="365760" cy="1250280"/>
            <a:chOff x="4916880" y="4695840"/>
            <a:chExt cx="365760" cy="1250280"/>
          </a:xfrm>
        </p:grpSpPr>
        <p:grpSp>
          <p:nvGrpSpPr>
            <p:cNvPr id="301" name=""/>
            <p:cNvGrpSpPr/>
            <p:nvPr/>
          </p:nvGrpSpPr>
          <p:grpSpPr>
            <a:xfrm>
              <a:off x="4916880" y="4695840"/>
              <a:ext cx="365760" cy="1250280"/>
              <a:chOff x="4916880" y="4695840"/>
              <a:chExt cx="365760" cy="1250280"/>
            </a:xfrm>
          </p:grpSpPr>
          <p:sp>
            <p:nvSpPr>
              <p:cNvPr id="302" name=""/>
              <p:cNvSpPr/>
              <p:nvPr/>
            </p:nvSpPr>
            <p:spPr>
              <a:xfrm>
                <a:off x="491688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92804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93272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4943520" y="548640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450400" y="4695840"/>
            <a:ext cx="365760" cy="1250280"/>
            <a:chOff x="5450400" y="4695840"/>
            <a:chExt cx="365760" cy="1250280"/>
          </a:xfrm>
        </p:grpSpPr>
        <p:grpSp>
          <p:nvGrpSpPr>
            <p:cNvPr id="307" name=""/>
            <p:cNvGrpSpPr/>
            <p:nvPr/>
          </p:nvGrpSpPr>
          <p:grpSpPr>
            <a:xfrm>
              <a:off x="5450400" y="4695840"/>
              <a:ext cx="365760" cy="1250280"/>
              <a:chOff x="5450400" y="4695840"/>
              <a:chExt cx="365760" cy="1250280"/>
            </a:xfrm>
          </p:grpSpPr>
          <p:sp>
            <p:nvSpPr>
              <p:cNvPr id="308" name=""/>
              <p:cNvSpPr/>
              <p:nvPr/>
            </p:nvSpPr>
            <p:spPr>
              <a:xfrm>
                <a:off x="54504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6120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6624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5467320" y="510552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721840" y="4695840"/>
            <a:ext cx="356040" cy="1250280"/>
            <a:chOff x="5721840" y="4695840"/>
            <a:chExt cx="356040" cy="1250280"/>
          </a:xfrm>
        </p:grpSpPr>
        <p:grpSp>
          <p:nvGrpSpPr>
            <p:cNvPr id="313" name=""/>
            <p:cNvGrpSpPr/>
            <p:nvPr/>
          </p:nvGrpSpPr>
          <p:grpSpPr>
            <a:xfrm>
              <a:off x="5721840" y="4695840"/>
              <a:ext cx="356040" cy="1250280"/>
              <a:chOff x="5721840" y="4695840"/>
              <a:chExt cx="356040" cy="1250280"/>
            </a:xfrm>
          </p:grpSpPr>
          <p:sp>
            <p:nvSpPr>
              <p:cNvPr id="314" name=""/>
              <p:cNvSpPr/>
              <p:nvPr/>
            </p:nvSpPr>
            <p:spPr>
              <a:xfrm>
                <a:off x="572184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72328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7279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5757840" y="548640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Frequently Used (LF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the page which was least frequently referenced (since the beginning of the reference stre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914400" y="4254480"/>
            <a:ext cx="6235200" cy="1691640"/>
            <a:chOff x="914400" y="4254480"/>
            <a:chExt cx="6235200" cy="1691640"/>
          </a:xfrm>
        </p:grpSpPr>
        <p:grpSp>
          <p:nvGrpSpPr>
            <p:cNvPr id="321" name=""/>
            <p:cNvGrpSpPr/>
            <p:nvPr/>
          </p:nvGrpSpPr>
          <p:grpSpPr>
            <a:xfrm>
              <a:off x="914400" y="4254480"/>
              <a:ext cx="6235200" cy="1691640"/>
              <a:chOff x="914400" y="4254480"/>
              <a:chExt cx="6235200" cy="1691640"/>
            </a:xfrm>
          </p:grpSpPr>
          <p:sp>
            <p:nvSpPr>
              <p:cNvPr id="322" name=""/>
              <p:cNvSpPr/>
              <p:nvPr/>
            </p:nvSpPr>
            <p:spPr>
              <a:xfrm>
                <a:off x="27608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326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943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6580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37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1151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772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6486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1818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39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3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9932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647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5264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996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168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914400" y="4267080"/>
                <a:ext cx="6175440" cy="1679040"/>
                <a:chOff x="914400" y="4267080"/>
                <a:chExt cx="6175440" cy="16790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1447920" y="469260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447920" y="512136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447920" y="551808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450800" y="5899320"/>
                  <a:ext cx="563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447920" y="426708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14400" y="47242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914400" y="510552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914400" y="54864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7" name=""/>
            <p:cNvGrpSpPr/>
            <p:nvPr/>
          </p:nvGrpSpPr>
          <p:grpSpPr>
            <a:xfrm>
              <a:off x="3278520" y="4691160"/>
              <a:ext cx="365760" cy="1250280"/>
              <a:chOff x="3278520" y="4691160"/>
              <a:chExt cx="365760" cy="1250280"/>
            </a:xfrm>
          </p:grpSpPr>
          <p:sp>
            <p:nvSpPr>
              <p:cNvPr id="348" name=""/>
              <p:cNvSpPr/>
              <p:nvPr/>
            </p:nvSpPr>
            <p:spPr>
              <a:xfrm>
                <a:off x="3278520" y="4691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289320" y="5087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3294360" y="5481720"/>
                <a:ext cx="349920" cy="459720"/>
                <a:chOff x="3294360" y="5481720"/>
                <a:chExt cx="349920" cy="4597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294360" y="54817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330000" y="5481720"/>
                  <a:ext cx="30456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" name=""/>
            <p:cNvGrpSpPr/>
            <p:nvPr/>
          </p:nvGrpSpPr>
          <p:grpSpPr>
            <a:xfrm>
              <a:off x="3038760" y="4695840"/>
              <a:ext cx="351720" cy="866880"/>
              <a:chOff x="3038760" y="4695840"/>
              <a:chExt cx="351720" cy="866880"/>
            </a:xfrm>
          </p:grpSpPr>
          <p:sp>
            <p:nvSpPr>
              <p:cNvPr id="354" name=""/>
              <p:cNvSpPr/>
              <p:nvPr/>
            </p:nvSpPr>
            <p:spPr>
              <a:xfrm>
                <a:off x="303876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"/>
              <p:cNvGrpSpPr/>
              <p:nvPr/>
            </p:nvGrpSpPr>
            <p:grpSpPr>
              <a:xfrm>
                <a:off x="3040560" y="5092560"/>
                <a:ext cx="349920" cy="470160"/>
                <a:chOff x="3040560" y="5092560"/>
                <a:chExt cx="349920" cy="47016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3040560" y="50925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048120" y="5105520"/>
                  <a:ext cx="30456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767320" y="4695840"/>
              <a:ext cx="349920" cy="485640"/>
              <a:chOff x="2767320" y="4695840"/>
              <a:chExt cx="349920" cy="485640"/>
            </a:xfrm>
          </p:grpSpPr>
          <p:sp>
            <p:nvSpPr>
              <p:cNvPr id="359" name=""/>
              <p:cNvSpPr/>
              <p:nvPr/>
            </p:nvSpPr>
            <p:spPr>
              <a:xfrm>
                <a:off x="276732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90720" y="472428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3572280" y="4695840"/>
            <a:ext cx="356040" cy="1250280"/>
            <a:chOff x="3572280" y="4695840"/>
            <a:chExt cx="356040" cy="1250280"/>
          </a:xfrm>
        </p:grpSpPr>
        <p:sp>
          <p:nvSpPr>
            <p:cNvPr id="362" name=""/>
            <p:cNvSpPr/>
            <p:nvPr/>
          </p:nvSpPr>
          <p:spPr>
            <a:xfrm>
              <a:off x="35737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7228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784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97120" y="548640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731200" y="4695840"/>
            <a:ext cx="356400" cy="1250280"/>
            <a:chOff x="5731200" y="4695840"/>
            <a:chExt cx="356400" cy="1250280"/>
          </a:xfrm>
        </p:grpSpPr>
        <p:sp>
          <p:nvSpPr>
            <p:cNvPr id="367" name=""/>
            <p:cNvSpPr/>
            <p:nvPr/>
          </p:nvSpPr>
          <p:spPr>
            <a:xfrm>
              <a:off x="573264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3768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731200" y="4695840"/>
              <a:ext cx="349920" cy="469800"/>
              <a:chOff x="5731200" y="4695840"/>
              <a:chExt cx="349920" cy="469800"/>
            </a:xfrm>
          </p:grpSpPr>
          <p:sp>
            <p:nvSpPr>
              <p:cNvPr id="370" name=""/>
              <p:cNvSpPr/>
              <p:nvPr/>
            </p:nvSpPr>
            <p:spPr>
              <a:xfrm>
                <a:off x="57312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75640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3845160" y="4695840"/>
            <a:ext cx="354960" cy="1250280"/>
            <a:chOff x="3845160" y="4695840"/>
            <a:chExt cx="354960" cy="1250280"/>
          </a:xfrm>
        </p:grpSpPr>
        <p:sp>
          <p:nvSpPr>
            <p:cNvPr id="373" name=""/>
            <p:cNvSpPr/>
            <p:nvPr/>
          </p:nvSpPr>
          <p:spPr>
            <a:xfrm>
              <a:off x="385020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516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502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654800" y="4695840"/>
            <a:ext cx="356400" cy="1250280"/>
            <a:chOff x="4654800" y="4695840"/>
            <a:chExt cx="356400" cy="1250280"/>
          </a:xfrm>
        </p:grpSpPr>
        <p:grpSp>
          <p:nvGrpSpPr>
            <p:cNvPr id="377" name=""/>
            <p:cNvGrpSpPr/>
            <p:nvPr/>
          </p:nvGrpSpPr>
          <p:grpSpPr>
            <a:xfrm>
              <a:off x="4654800" y="4695840"/>
              <a:ext cx="356400" cy="1250280"/>
              <a:chOff x="4654800" y="4695840"/>
              <a:chExt cx="356400" cy="1250280"/>
            </a:xfrm>
          </p:grpSpPr>
          <p:sp>
            <p:nvSpPr>
              <p:cNvPr id="378" name=""/>
              <p:cNvSpPr/>
              <p:nvPr/>
            </p:nvSpPr>
            <p:spPr>
              <a:xfrm>
                <a:off x="46548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65660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66128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4676760" y="510552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097520" y="4695840"/>
            <a:ext cx="354960" cy="1250280"/>
            <a:chOff x="4097520" y="4695840"/>
            <a:chExt cx="354960" cy="1250280"/>
          </a:xfrm>
        </p:grpSpPr>
        <p:sp>
          <p:nvSpPr>
            <p:cNvPr id="383" name=""/>
            <p:cNvSpPr/>
            <p:nvPr/>
          </p:nvSpPr>
          <p:spPr>
            <a:xfrm>
              <a:off x="410256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975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0256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359600" y="4695840"/>
            <a:ext cx="365760" cy="1250280"/>
            <a:chOff x="4359600" y="4695840"/>
            <a:chExt cx="365760" cy="1250280"/>
          </a:xfrm>
        </p:grpSpPr>
        <p:sp>
          <p:nvSpPr>
            <p:cNvPr id="387" name=""/>
            <p:cNvSpPr/>
            <p:nvPr/>
          </p:nvSpPr>
          <p:spPr>
            <a:xfrm>
              <a:off x="435960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7040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4375440" y="5486400"/>
              <a:ext cx="349920" cy="459720"/>
              <a:chOff x="4375440" y="5486400"/>
              <a:chExt cx="349920" cy="459720"/>
            </a:xfrm>
          </p:grpSpPr>
          <p:sp>
            <p:nvSpPr>
              <p:cNvPr id="390" name=""/>
              <p:cNvSpPr/>
              <p:nvPr/>
            </p:nvSpPr>
            <p:spPr>
              <a:xfrm>
                <a:off x="437544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11080" y="548640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2" name=""/>
          <p:cNvGrpSpPr/>
          <p:nvPr/>
        </p:nvGrpSpPr>
        <p:grpSpPr>
          <a:xfrm>
            <a:off x="4915080" y="4695840"/>
            <a:ext cx="354960" cy="1250280"/>
            <a:chOff x="4915080" y="4695840"/>
            <a:chExt cx="354960" cy="1250280"/>
          </a:xfrm>
        </p:grpSpPr>
        <p:sp>
          <p:nvSpPr>
            <p:cNvPr id="393" name=""/>
            <p:cNvSpPr/>
            <p:nvPr/>
          </p:nvSpPr>
          <p:spPr>
            <a:xfrm>
              <a:off x="492012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1508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2012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5183280" y="4695840"/>
            <a:ext cx="356400" cy="1250280"/>
            <a:chOff x="5183280" y="4695840"/>
            <a:chExt cx="356400" cy="1250280"/>
          </a:xfrm>
        </p:grpSpPr>
        <p:grpSp>
          <p:nvGrpSpPr>
            <p:cNvPr id="397" name=""/>
            <p:cNvGrpSpPr/>
            <p:nvPr/>
          </p:nvGrpSpPr>
          <p:grpSpPr>
            <a:xfrm>
              <a:off x="5183280" y="4695840"/>
              <a:ext cx="356400" cy="1250280"/>
              <a:chOff x="5183280" y="4695840"/>
              <a:chExt cx="356400" cy="1250280"/>
            </a:xfrm>
          </p:grpSpPr>
          <p:sp>
            <p:nvSpPr>
              <p:cNvPr id="398" name=""/>
              <p:cNvSpPr/>
              <p:nvPr/>
            </p:nvSpPr>
            <p:spPr>
              <a:xfrm>
                <a:off x="518328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18508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1897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205240" y="510552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469120" y="4695840"/>
            <a:ext cx="354960" cy="1250280"/>
            <a:chOff x="5469120" y="4695840"/>
            <a:chExt cx="354960" cy="1250280"/>
          </a:xfrm>
        </p:grpSpPr>
        <p:sp>
          <p:nvSpPr>
            <p:cNvPr id="403" name=""/>
            <p:cNvSpPr/>
            <p:nvPr/>
          </p:nvSpPr>
          <p:spPr>
            <a:xfrm>
              <a:off x="547416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691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7416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994720" y="4695840"/>
            <a:ext cx="365760" cy="1250280"/>
            <a:chOff x="5994720" y="4695840"/>
            <a:chExt cx="365760" cy="1250280"/>
          </a:xfrm>
        </p:grpSpPr>
        <p:sp>
          <p:nvSpPr>
            <p:cNvPr id="407" name=""/>
            <p:cNvSpPr/>
            <p:nvPr/>
          </p:nvSpPr>
          <p:spPr>
            <a:xfrm>
              <a:off x="599472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055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6010560" y="5486400"/>
              <a:ext cx="349920" cy="459720"/>
              <a:chOff x="6010560" y="5486400"/>
              <a:chExt cx="349920" cy="459720"/>
            </a:xfrm>
          </p:grpSpPr>
          <p:sp>
            <p:nvSpPr>
              <p:cNvPr id="410" name=""/>
              <p:cNvSpPr/>
              <p:nvPr/>
            </p:nvSpPr>
            <p:spPr>
              <a:xfrm>
                <a:off x="60105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046200" y="548640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"/>
          <p:cNvGrpSpPr/>
          <p:nvPr/>
        </p:nvGrpSpPr>
        <p:grpSpPr>
          <a:xfrm>
            <a:off x="6264720" y="4695840"/>
            <a:ext cx="365760" cy="1250280"/>
            <a:chOff x="6264720" y="4695840"/>
            <a:chExt cx="365760" cy="1250280"/>
          </a:xfrm>
        </p:grpSpPr>
        <p:sp>
          <p:nvSpPr>
            <p:cNvPr id="413" name=""/>
            <p:cNvSpPr/>
            <p:nvPr/>
          </p:nvSpPr>
          <p:spPr>
            <a:xfrm>
              <a:off x="626472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7588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6280560" y="5486400"/>
              <a:ext cx="349920" cy="459720"/>
              <a:chOff x="6280560" y="5486400"/>
              <a:chExt cx="349920" cy="459720"/>
            </a:xfrm>
          </p:grpSpPr>
          <p:sp>
            <p:nvSpPr>
              <p:cNvPr id="416" name=""/>
              <p:cNvSpPr/>
              <p:nvPr/>
            </p:nvSpPr>
            <p:spPr>
              <a:xfrm>
                <a:off x="62805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16560" y="548640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6537600" y="4695840"/>
            <a:ext cx="365760" cy="1250280"/>
            <a:chOff x="6537600" y="4695840"/>
            <a:chExt cx="365760" cy="1250280"/>
          </a:xfrm>
        </p:grpSpPr>
        <p:sp>
          <p:nvSpPr>
            <p:cNvPr id="419" name=""/>
            <p:cNvSpPr/>
            <p:nvPr/>
          </p:nvSpPr>
          <p:spPr>
            <a:xfrm>
              <a:off x="653760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4840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553440" y="5486400"/>
              <a:ext cx="349920" cy="459720"/>
              <a:chOff x="6553440" y="5486400"/>
              <a:chExt cx="349920" cy="459720"/>
            </a:xfrm>
          </p:grpSpPr>
          <p:sp>
            <p:nvSpPr>
              <p:cNvPr id="422" name=""/>
              <p:cNvSpPr/>
              <p:nvPr/>
            </p:nvSpPr>
            <p:spPr>
              <a:xfrm>
                <a:off x="655344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589080" y="548640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6804360" y="4691160"/>
            <a:ext cx="365760" cy="1250280"/>
            <a:chOff x="6804360" y="4691160"/>
            <a:chExt cx="365760" cy="1250280"/>
          </a:xfrm>
        </p:grpSpPr>
        <p:sp>
          <p:nvSpPr>
            <p:cNvPr id="425" name=""/>
            <p:cNvSpPr/>
            <p:nvPr/>
          </p:nvSpPr>
          <p:spPr>
            <a:xfrm>
              <a:off x="6804360" y="469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15160" y="5087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6820200" y="5481720"/>
              <a:ext cx="349920" cy="459720"/>
              <a:chOff x="6820200" y="5481720"/>
              <a:chExt cx="349920" cy="459720"/>
            </a:xfrm>
          </p:grpSpPr>
          <p:sp>
            <p:nvSpPr>
              <p:cNvPr id="428" name=""/>
              <p:cNvSpPr/>
              <p:nvPr/>
            </p:nvSpPr>
            <p:spPr>
              <a:xfrm>
                <a:off x="6820200" y="5481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855840" y="548172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In First Out (FIF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the page that has been in memory lon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914400" y="4254480"/>
            <a:ext cx="6235200" cy="1691640"/>
            <a:chOff x="914400" y="4254480"/>
            <a:chExt cx="6235200" cy="1691640"/>
          </a:xfrm>
        </p:grpSpPr>
        <p:grpSp>
          <p:nvGrpSpPr>
            <p:cNvPr id="433" name=""/>
            <p:cNvGrpSpPr/>
            <p:nvPr/>
          </p:nvGrpSpPr>
          <p:grpSpPr>
            <a:xfrm>
              <a:off x="914400" y="4254480"/>
              <a:ext cx="6235200" cy="1691640"/>
              <a:chOff x="914400" y="4254480"/>
              <a:chExt cx="6235200" cy="1691640"/>
            </a:xfrm>
          </p:grpSpPr>
          <p:sp>
            <p:nvSpPr>
              <p:cNvPr id="434" name=""/>
              <p:cNvSpPr/>
              <p:nvPr/>
            </p:nvSpPr>
            <p:spPr>
              <a:xfrm>
                <a:off x="27608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326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2943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56580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8437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51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772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486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1818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439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71536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9932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6472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52644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7996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916880" y="425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914400" y="4267080"/>
                <a:ext cx="6175440" cy="1679040"/>
                <a:chOff x="914400" y="4267080"/>
                <a:chExt cx="6175440" cy="167904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1447920" y="469260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447920" y="512136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447920" y="551808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450800" y="5899320"/>
                  <a:ext cx="563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447920" y="4267080"/>
                  <a:ext cx="563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914400" y="47242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914400" y="510552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914400" y="54864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r 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"/>
            <p:cNvGrpSpPr/>
            <p:nvPr/>
          </p:nvGrpSpPr>
          <p:grpSpPr>
            <a:xfrm>
              <a:off x="3278520" y="4691160"/>
              <a:ext cx="365760" cy="1250280"/>
              <a:chOff x="3278520" y="4691160"/>
              <a:chExt cx="365760" cy="1250280"/>
            </a:xfrm>
          </p:grpSpPr>
          <p:sp>
            <p:nvSpPr>
              <p:cNvPr id="460" name=""/>
              <p:cNvSpPr/>
              <p:nvPr/>
            </p:nvSpPr>
            <p:spPr>
              <a:xfrm>
                <a:off x="3278520" y="4691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289320" y="5087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3294360" y="5481720"/>
                <a:ext cx="349920" cy="459720"/>
                <a:chOff x="3294360" y="5481720"/>
                <a:chExt cx="349920" cy="4597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294360" y="54817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330000" y="5481720"/>
                  <a:ext cx="30456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5" name=""/>
            <p:cNvGrpSpPr/>
            <p:nvPr/>
          </p:nvGrpSpPr>
          <p:grpSpPr>
            <a:xfrm>
              <a:off x="3038760" y="4695840"/>
              <a:ext cx="351720" cy="866880"/>
              <a:chOff x="3038760" y="4695840"/>
              <a:chExt cx="351720" cy="866880"/>
            </a:xfrm>
          </p:grpSpPr>
          <p:sp>
            <p:nvSpPr>
              <p:cNvPr id="466" name=""/>
              <p:cNvSpPr/>
              <p:nvPr/>
            </p:nvSpPr>
            <p:spPr>
              <a:xfrm>
                <a:off x="303876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3040560" y="5092560"/>
                <a:ext cx="349920" cy="470160"/>
                <a:chOff x="3040560" y="5092560"/>
                <a:chExt cx="349920" cy="4701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3040560" y="50925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048120" y="5105520"/>
                  <a:ext cx="30456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0" name=""/>
            <p:cNvGrpSpPr/>
            <p:nvPr/>
          </p:nvGrpSpPr>
          <p:grpSpPr>
            <a:xfrm>
              <a:off x="2767320" y="4695840"/>
              <a:ext cx="349920" cy="485640"/>
              <a:chOff x="2767320" y="4695840"/>
              <a:chExt cx="349920" cy="485640"/>
            </a:xfrm>
          </p:grpSpPr>
          <p:sp>
            <p:nvSpPr>
              <p:cNvPr id="471" name=""/>
              <p:cNvSpPr/>
              <p:nvPr/>
            </p:nvSpPr>
            <p:spPr>
              <a:xfrm>
                <a:off x="276732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790720" y="472428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3" name=""/>
          <p:cNvGrpSpPr/>
          <p:nvPr/>
        </p:nvGrpSpPr>
        <p:grpSpPr>
          <a:xfrm>
            <a:off x="3572280" y="4695840"/>
            <a:ext cx="356040" cy="1250280"/>
            <a:chOff x="3572280" y="4695840"/>
            <a:chExt cx="356040" cy="1250280"/>
          </a:xfrm>
        </p:grpSpPr>
        <p:sp>
          <p:nvSpPr>
            <p:cNvPr id="474" name=""/>
            <p:cNvSpPr/>
            <p:nvPr/>
          </p:nvSpPr>
          <p:spPr>
            <a:xfrm>
              <a:off x="35737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7228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784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97120" y="472428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383360" y="4695840"/>
            <a:ext cx="365760" cy="1250280"/>
            <a:chOff x="4383360" y="4695840"/>
            <a:chExt cx="365760" cy="1250280"/>
          </a:xfrm>
        </p:grpSpPr>
        <p:sp>
          <p:nvSpPr>
            <p:cNvPr id="479" name=""/>
            <p:cNvSpPr/>
            <p:nvPr/>
          </p:nvSpPr>
          <p:spPr>
            <a:xfrm>
              <a:off x="438336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992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945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05320" y="472428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188320" y="4695840"/>
            <a:ext cx="356400" cy="1250280"/>
            <a:chOff x="5188320" y="4695840"/>
            <a:chExt cx="356400" cy="1250280"/>
          </a:xfrm>
        </p:grpSpPr>
        <p:sp>
          <p:nvSpPr>
            <p:cNvPr id="484" name=""/>
            <p:cNvSpPr/>
            <p:nvPr/>
          </p:nvSpPr>
          <p:spPr>
            <a:xfrm>
              <a:off x="518976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948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5188320" y="4695840"/>
              <a:ext cx="349920" cy="469800"/>
              <a:chOff x="5188320" y="4695840"/>
              <a:chExt cx="349920" cy="469800"/>
            </a:xfrm>
          </p:grpSpPr>
          <p:sp>
            <p:nvSpPr>
              <p:cNvPr id="487" name=""/>
              <p:cNvSpPr/>
              <p:nvPr/>
            </p:nvSpPr>
            <p:spPr>
              <a:xfrm>
                <a:off x="518832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21352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5994720" y="4695840"/>
            <a:ext cx="354600" cy="1250280"/>
            <a:chOff x="5994720" y="4695840"/>
            <a:chExt cx="354600" cy="1250280"/>
          </a:xfrm>
        </p:grpSpPr>
        <p:sp>
          <p:nvSpPr>
            <p:cNvPr id="490" name=""/>
            <p:cNvSpPr/>
            <p:nvPr/>
          </p:nvSpPr>
          <p:spPr>
            <a:xfrm>
              <a:off x="599472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9940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5999400" y="4695840"/>
              <a:ext cx="349920" cy="469800"/>
              <a:chOff x="5999400" y="4695840"/>
              <a:chExt cx="349920" cy="469800"/>
            </a:xfrm>
          </p:grpSpPr>
          <p:sp>
            <p:nvSpPr>
              <p:cNvPr id="493" name=""/>
              <p:cNvSpPr/>
              <p:nvPr/>
            </p:nvSpPr>
            <p:spPr>
              <a:xfrm>
                <a:off x="59994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03576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6270840" y="4695840"/>
            <a:ext cx="356400" cy="1250280"/>
            <a:chOff x="6270840" y="4695840"/>
            <a:chExt cx="356400" cy="1250280"/>
          </a:xfrm>
        </p:grpSpPr>
        <p:sp>
          <p:nvSpPr>
            <p:cNvPr id="496" name=""/>
            <p:cNvSpPr/>
            <p:nvPr/>
          </p:nvSpPr>
          <p:spPr>
            <a:xfrm>
              <a:off x="627084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7732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6272640" y="5092560"/>
              <a:ext cx="349920" cy="470160"/>
              <a:chOff x="6272640" y="5092560"/>
              <a:chExt cx="349920" cy="470160"/>
            </a:xfrm>
          </p:grpSpPr>
          <p:sp>
            <p:nvSpPr>
              <p:cNvPr id="499" name=""/>
              <p:cNvSpPr/>
              <p:nvPr/>
            </p:nvSpPr>
            <p:spPr>
              <a:xfrm>
                <a:off x="627264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308640" y="510552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"/>
          <p:cNvGrpSpPr/>
          <p:nvPr/>
        </p:nvGrpSpPr>
        <p:grpSpPr>
          <a:xfrm>
            <a:off x="6532920" y="4695840"/>
            <a:ext cx="365760" cy="1250280"/>
            <a:chOff x="6532920" y="4695840"/>
            <a:chExt cx="365760" cy="1250280"/>
          </a:xfrm>
        </p:grpSpPr>
        <p:sp>
          <p:nvSpPr>
            <p:cNvPr id="502" name=""/>
            <p:cNvSpPr/>
            <p:nvPr/>
          </p:nvSpPr>
          <p:spPr>
            <a:xfrm>
              <a:off x="6532920" y="46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4408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6548760" y="5486400"/>
              <a:ext cx="349920" cy="459720"/>
              <a:chOff x="6548760" y="5486400"/>
              <a:chExt cx="349920" cy="459720"/>
            </a:xfrm>
          </p:grpSpPr>
          <p:sp>
            <p:nvSpPr>
              <p:cNvPr id="505" name=""/>
              <p:cNvSpPr/>
              <p:nvPr/>
            </p:nvSpPr>
            <p:spPr>
              <a:xfrm>
                <a:off x="65487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68920" y="5486400"/>
                <a:ext cx="3049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7" name=""/>
          <p:cNvGrpSpPr/>
          <p:nvPr/>
        </p:nvGrpSpPr>
        <p:grpSpPr>
          <a:xfrm>
            <a:off x="6805800" y="4695840"/>
            <a:ext cx="354960" cy="1250280"/>
            <a:chOff x="6805800" y="4695840"/>
            <a:chExt cx="354960" cy="1250280"/>
          </a:xfrm>
        </p:grpSpPr>
        <p:sp>
          <p:nvSpPr>
            <p:cNvPr id="508" name=""/>
            <p:cNvSpPr/>
            <p:nvPr/>
          </p:nvSpPr>
          <p:spPr>
            <a:xfrm>
              <a:off x="6805800" y="509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10840" y="548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6805800" y="4695840"/>
              <a:ext cx="349920" cy="469800"/>
              <a:chOff x="6805800" y="4695840"/>
              <a:chExt cx="349920" cy="469800"/>
            </a:xfrm>
          </p:grpSpPr>
          <p:sp>
            <p:nvSpPr>
              <p:cNvPr id="511" name=""/>
              <p:cNvSpPr/>
              <p:nvPr/>
            </p:nvSpPr>
            <p:spPr>
              <a:xfrm>
                <a:off x="68058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826320" y="4708440"/>
                <a:ext cx="3045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3" name=""/>
          <p:cNvGrpSpPr/>
          <p:nvPr/>
        </p:nvGrpSpPr>
        <p:grpSpPr>
          <a:xfrm>
            <a:off x="3845160" y="4695840"/>
            <a:ext cx="354960" cy="1250280"/>
            <a:chOff x="3845160" y="4695840"/>
            <a:chExt cx="354960" cy="1250280"/>
          </a:xfrm>
        </p:grpSpPr>
        <p:grpSp>
          <p:nvGrpSpPr>
            <p:cNvPr id="514" name=""/>
            <p:cNvGrpSpPr/>
            <p:nvPr/>
          </p:nvGrpSpPr>
          <p:grpSpPr>
            <a:xfrm>
              <a:off x="3845160" y="4695840"/>
              <a:ext cx="354960" cy="1250280"/>
              <a:chOff x="3845160" y="4695840"/>
              <a:chExt cx="354960" cy="1250280"/>
            </a:xfrm>
          </p:grpSpPr>
          <p:sp>
            <p:nvSpPr>
              <p:cNvPr id="515" name=""/>
              <p:cNvSpPr/>
              <p:nvPr/>
            </p:nvSpPr>
            <p:spPr>
              <a:xfrm>
                <a:off x="38502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84516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85020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>
              <a:off x="3867120" y="510552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121640" y="4695840"/>
            <a:ext cx="356040" cy="1250280"/>
            <a:chOff x="4121640" y="4695840"/>
            <a:chExt cx="356040" cy="1250280"/>
          </a:xfrm>
        </p:grpSpPr>
        <p:grpSp>
          <p:nvGrpSpPr>
            <p:cNvPr id="520" name=""/>
            <p:cNvGrpSpPr/>
            <p:nvPr/>
          </p:nvGrpSpPr>
          <p:grpSpPr>
            <a:xfrm>
              <a:off x="4121640" y="4695840"/>
              <a:ext cx="356040" cy="1250280"/>
              <a:chOff x="4121640" y="4695840"/>
              <a:chExt cx="356040" cy="1250280"/>
            </a:xfrm>
          </p:grpSpPr>
          <p:sp>
            <p:nvSpPr>
              <p:cNvPr id="521" name=""/>
              <p:cNvSpPr/>
              <p:nvPr/>
            </p:nvSpPr>
            <p:spPr>
              <a:xfrm>
                <a:off x="412164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12308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1277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4162320" y="548640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4654800" y="4695840"/>
            <a:ext cx="356400" cy="1250280"/>
            <a:chOff x="4654800" y="4695840"/>
            <a:chExt cx="356400" cy="1250280"/>
          </a:xfrm>
        </p:grpSpPr>
        <p:grpSp>
          <p:nvGrpSpPr>
            <p:cNvPr id="526" name=""/>
            <p:cNvGrpSpPr/>
            <p:nvPr/>
          </p:nvGrpSpPr>
          <p:grpSpPr>
            <a:xfrm>
              <a:off x="4654800" y="4695840"/>
              <a:ext cx="356400" cy="1250280"/>
              <a:chOff x="4654800" y="4695840"/>
              <a:chExt cx="356400" cy="1250280"/>
            </a:xfrm>
          </p:grpSpPr>
          <p:sp>
            <p:nvSpPr>
              <p:cNvPr id="527" name=""/>
              <p:cNvSpPr/>
              <p:nvPr/>
            </p:nvSpPr>
            <p:spPr>
              <a:xfrm>
                <a:off x="46548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65660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66128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4676760" y="510552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916880" y="4695840"/>
            <a:ext cx="365760" cy="1250280"/>
            <a:chOff x="4916880" y="4695840"/>
            <a:chExt cx="365760" cy="1250280"/>
          </a:xfrm>
        </p:grpSpPr>
        <p:grpSp>
          <p:nvGrpSpPr>
            <p:cNvPr id="532" name=""/>
            <p:cNvGrpSpPr/>
            <p:nvPr/>
          </p:nvGrpSpPr>
          <p:grpSpPr>
            <a:xfrm>
              <a:off x="4916880" y="4695840"/>
              <a:ext cx="365760" cy="1250280"/>
              <a:chOff x="4916880" y="4695840"/>
              <a:chExt cx="365760" cy="1250280"/>
            </a:xfrm>
          </p:grpSpPr>
          <p:sp>
            <p:nvSpPr>
              <p:cNvPr id="533" name=""/>
              <p:cNvSpPr/>
              <p:nvPr/>
            </p:nvSpPr>
            <p:spPr>
              <a:xfrm>
                <a:off x="491688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92804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93272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4943520" y="548640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450400" y="4695840"/>
            <a:ext cx="365760" cy="1250280"/>
            <a:chOff x="5450400" y="4695840"/>
            <a:chExt cx="365760" cy="1250280"/>
          </a:xfrm>
        </p:grpSpPr>
        <p:grpSp>
          <p:nvGrpSpPr>
            <p:cNvPr id="538" name=""/>
            <p:cNvGrpSpPr/>
            <p:nvPr/>
          </p:nvGrpSpPr>
          <p:grpSpPr>
            <a:xfrm>
              <a:off x="5450400" y="4695840"/>
              <a:ext cx="365760" cy="1250280"/>
              <a:chOff x="5450400" y="4695840"/>
              <a:chExt cx="365760" cy="1250280"/>
            </a:xfrm>
          </p:grpSpPr>
          <p:sp>
            <p:nvSpPr>
              <p:cNvPr id="539" name=""/>
              <p:cNvSpPr/>
              <p:nvPr/>
            </p:nvSpPr>
            <p:spPr>
              <a:xfrm>
                <a:off x="545040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6120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6624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5467320" y="510552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5721840" y="4695840"/>
            <a:ext cx="356040" cy="1250280"/>
            <a:chOff x="5721840" y="4695840"/>
            <a:chExt cx="356040" cy="1250280"/>
          </a:xfrm>
        </p:grpSpPr>
        <p:grpSp>
          <p:nvGrpSpPr>
            <p:cNvPr id="544" name=""/>
            <p:cNvGrpSpPr/>
            <p:nvPr/>
          </p:nvGrpSpPr>
          <p:grpSpPr>
            <a:xfrm>
              <a:off x="5721840" y="4695840"/>
              <a:ext cx="356040" cy="1250280"/>
              <a:chOff x="5721840" y="4695840"/>
              <a:chExt cx="356040" cy="1250280"/>
            </a:xfrm>
          </p:grpSpPr>
          <p:sp>
            <p:nvSpPr>
              <p:cNvPr id="545" name=""/>
              <p:cNvSpPr/>
              <p:nvPr/>
            </p:nvSpPr>
            <p:spPr>
              <a:xfrm>
                <a:off x="5721840" y="4695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723280" y="509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727960" y="548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5757840" y="548640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of the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same reference stream and number of available fr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caused 10 page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U caused 16 page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FU caused 12 page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caused 16 page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Primary Memory (RAM) is divided into fixed size partitions we call </a:t>
            </a:r>
            <a:r>
              <a:rPr b="0" i="1" lang="en-CA" sz="36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Processes also divided into same sized partitions we call </a:t>
            </a:r>
            <a:r>
              <a:rPr b="0" i="1" lang="en-CA" sz="36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Result: almost no frag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cess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of the process is on Secondary Memory (H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of the process pages are loaded into frames in 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RAM, the frames allocated to a process need not be contig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age tab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map pages to 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’s the po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more processes can run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well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ence locality behaviou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l-supported by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emory referen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Paging System must be able to translate each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irtual addr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to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t run-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ress = &lt;page/frame num, offse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: 32 bits = &lt;24 bits, 8 bits&gt;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77721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ages, 256 locations per pag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CP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1981080"/>
            <a:ext cx="3352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96560" y="202104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3880" y="202104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e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1981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73440" y="4684680"/>
            <a:ext cx="3352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5360" y="47242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3400" y="47242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e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21360" y="46846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3200400"/>
            <a:ext cx="21337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00680" y="34084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4038480"/>
            <a:ext cx="0" cy="649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2590920"/>
            <a:ext cx="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9040" y="202104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3800" y="480060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2720" y="3200400"/>
            <a:ext cx="121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981080" y="358128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Reference 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given process, the page reference stream is the list of virtual page numbers ordered according to when they are refere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Process with 5 pag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2, 3, 1, 2, 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Paging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process starts, it is allocated a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umber of frames in 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ging Policies: defines how pages will be loaded/unloaded into frames allocated to th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Basic Paging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tch Poli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termin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ag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a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lacement Poli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f all frames are full, determin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ich p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l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cement Poli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termin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fetched pag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a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22:21:12Z</dcterms:created>
  <dc:creator>Antonio Maiorano</dc:creator>
  <dc:description/>
  <dc:language>en-US</dc:language>
  <cp:lastModifiedBy>Aiman Hanna</cp:lastModifiedBy>
  <dcterms:modified xsi:type="dcterms:W3CDTF">2002-03-25T02:24:05Z</dcterms:modified>
  <cp:revision>94</cp:revision>
  <dc:subject/>
  <dc:title>Deadlock with Semaphor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27885154</vt:r8>
  </property>
  <property fmtid="{D5CDD505-2E9C-101B-9397-08002B2CF9AE}" pid="3" name="_AuthorEmail">
    <vt:lpwstr>dimarco@cs.concordia.ca</vt:lpwstr>
  </property>
  <property fmtid="{D5CDD505-2E9C-101B-9397-08002B2CF9AE}" pid="4" name="_AuthorEmailDisplayName">
    <vt:lpwstr>Paul Di Marco</vt:lpwstr>
  </property>
  <property fmtid="{D5CDD505-2E9C-101B-9397-08002B2CF9AE}" pid="5" name="_EmailSubject">
    <vt:lpwstr/>
  </property>
</Properties>
</file>