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DF1-924F-46A5-81D7-90C020E7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875-5FB0-4FEF-9109-8E009C5E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EE2-FAA8-41D3-A74D-0CD22010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001-3FF4-4EC9-B927-E203086E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892-6882-4AC0-A6AF-57907830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55E-8E46-456C-B81B-E8C2AAE4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73D-A239-4F32-9521-E50D0286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741-27B3-4E24-B4A8-5B686013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EE6-05A9-43FC-8D64-E45889A8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4AE-C4B0-4FDE-B0B2-E1084B97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709-4BF0-4A7E-842C-01D182D0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2A5-367C-4FF1-8A0E-C1BCB5A9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A00E-32DE-4205-9BF1-E9FA5E66A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the Java program so that al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s produced at runtime plus any initial messages are consu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Do not alter the initial state of the buffer or the production of messages.  Modify the consumption of messages by making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modification to the main 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implest solution would involve changing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sumer thread tak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the Java program so t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s produce two consecutive messages with each 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y take.  For example, producer 1 deposits 161 and 162 (162 = 161 + 1) in two _contiguous_ buffer slots as his first step.  (161 = step 1, value 6, phase 1)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ducer must reserve two contiguous buffer slots atomically with respect to other produc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messages produced at runtime plus any initial messages are consu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now there are more messages (in fac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Note t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s still remove one message at a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aphore to denote number of emp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 good enough to contro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specific sl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eposit in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Tas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member when we talked about AND-Synchroniz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te that 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r can ever deposit at one time because we us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aphore. This makes the solution simpler than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rs could deposit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er/Consumer Pseudo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*|*|*| | | | | | | |*|*|*|*|  0-indexed  [0..n - 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^ --&gt;         ^ 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r         fr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last filled) (last empti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proc' deposit (m : mtype) =      'proc' remove ('var' m : mtyp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begin'                           'begin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it (slot)                       wait (mess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it (sender)                     wait (rece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r &lt;-- (rear + 1) [n]          front &lt;-- (front + 1) 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uf[rear] &lt;-- m                   m &lt;-- buf[fron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gnal (sender)                   signal (rece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gnal (message)                  signal (sl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end'                             'en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[slot]    = n   init[sender]   = 1    front = rear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[message] = 0   init[receiver]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 Expla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ph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number of slots available to deposit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number of messages ready to be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mutex for Producers (sen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mutex for Consumers (receiv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chronize production and consumption, ensuring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umer only consumes when there are messages in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ducer only produces if there are empty slots in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in P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steps = 4;  // process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len = 8;  // buffer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Semaphore slot = new Semaphore(4); // slot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Semaphore message = new Semaphore(4); // message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buf[] = new int[] {0, 200, 200, 200, 200, 0, 0, 0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Producer extends Thread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rear = 4;  // rear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Semaphore sender = new Semaphore(1); // producer 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nsumer extends Thread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front = 0;  // front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Semaphore receiver = new Semaphore(1); // consumer 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()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ducers created with tids: 1, 2, 3, 4 and values: 6, 7, 8,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Consumers created with tids: 1, 2, 3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added to ready queue in following 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1, C1, P2, C2, P3, C3, P4, C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run()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s PC.steps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s a value to depos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 = 100 * tid + 10 * val + (j + 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3 digit number [tid, val, odd nu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s Deposi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run()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s PC.steps number of times (al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s Remove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Deposit()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.slot.Wait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nder.Wait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ar = (rear + 1) % PC.l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.buf[rear] = st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 ("Production:  " + PC.buf[rea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" into slot " + rea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nder.Signal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.message.Signal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s pseudocode for proc ‘deposi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Remove()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.message.Wait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ceiver.Wait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(front + 1) % PC.l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tar = PC.buf[front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 ("Consumption: " + PC.buf[fron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" from slot " + fro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ceiver.Signal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.slot.Signal 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s pseudocode for proc ‘remov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3:30:20Z</dcterms:created>
  <dc:creator>Antonio Maiorano</dc:creator>
  <dc:description/>
  <dc:language>en-US</dc:language>
  <cp:lastModifiedBy>FRAPS</cp:lastModifiedBy>
  <dcterms:modified xsi:type="dcterms:W3CDTF">2002-03-27T12:47:14Z</dcterms:modified>
  <cp:revision>20</cp:revision>
  <dc:subject/>
  <dc:title>Tutorial 8</dc:title>
</cp:coreProperties>
</file>